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457-2800-41FC-A0C3-7F1CC421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A6E-9FC5-4D19-9CD9-5B01FD8D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B6D-A776-410D-B1B4-1AC4EB2A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D7D-2646-4AFD-878D-03109FBE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CF5-A569-4D72-97A6-114D4509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8F6-5A6F-4354-A9FA-122E8462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0B6-5A95-49D7-BD33-62BCB428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5BF-E564-4146-BFA7-69308E31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F77-5824-48AD-9561-EF6B5D16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470-1D13-4E44-A01A-3D24060F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48D-4710-4FC2-8008-A4999D5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01C-B4A1-4813-94C1-B034943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D012-DCE1-416F-9FFC-25D00BFF3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aps.yahoo.com/maps_result?csz=Nashville%2C+TN&amp;state=TN&amp;uzip=37219&amp;ds=n&amp;name=&amp;desc=&amp;ed=_RX4iOp_0TrPFvpwT1rWgq3SWDmzbAwnvLXFKviq7jV2b_KLneyDwZUsUqUYH4xwcMWHw3uiY0duIjeVwEJTK0c-&amp;zoomin=yes&amp;BFKey=&amp;resize=l&amp;mag=5&amp;trf=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dot.state.oh.us/" TargetMode="External"/><Relationship Id="rId2" Type="http://schemas.openxmlformats.org/officeDocument/2006/relationships/hyperlink" Target="http://www.dot.state.oh.us/COND.HTM" TargetMode="External"/><Relationship Id="rId3" Type="http://schemas.openxmlformats.org/officeDocument/2006/relationships/hyperlink" Target="http://www.dot.state.oh.us/CONTRACT/" TargetMode="External"/><Relationship Id="rId4" Type="http://schemas.openxmlformats.org/officeDocument/2006/relationships/hyperlink" Target="http://www.dot.state.oh.us/dist.asp" TargetMode="External"/><Relationship Id="rId5" Type="http://schemas.openxmlformats.org/officeDocument/2006/relationships/hyperlink" Target="http://www.dot.state.oh.us/cadd.HTM" TargetMode="External"/><Relationship Id="rId6" Type="http://schemas.openxmlformats.org/officeDocument/2006/relationships/hyperlink" Target="http://www.dot.state.oh.us/finance/default.htm" TargetMode="External"/><Relationship Id="rId7" Type="http://schemas.openxmlformats.org/officeDocument/2006/relationships/hyperlink" Target="http://intranet.dot.state.oh.us/" TargetMode="External"/><Relationship Id="rId8" Type="http://schemas.openxmlformats.org/officeDocument/2006/relationships/hyperlink" Target="http://www.dot.state.oh.us/" TargetMode="External"/><Relationship Id="rId9" Type="http://schemas.openxmlformats.org/officeDocument/2006/relationships/hyperlink" Target="http://www.dot.state.oh.us/" TargetMode="External"/><Relationship Id="rId10" Type="http://schemas.openxmlformats.org/officeDocument/2006/relationships/hyperlink" Target="http://www.dot.state.oh.us/Info/divs&amp;offices.asp" TargetMode="External"/><Relationship Id="rId11" Type="http://schemas.openxmlformats.org/officeDocument/2006/relationships/hyperlink" Target="http://www.odotonline.org/otis" TargetMode="External"/><Relationship Id="rId12" Type="http://schemas.openxmlformats.org/officeDocument/2006/relationships/hyperlink" Target="http://www.dot.state.oh.us/policy.htm" TargetMode="External"/><Relationship Id="rId13" Type="http://schemas.openxmlformats.org/officeDocument/2006/relationships/hyperlink" Target="http://www.dot.state.oh.us/SERVICES.asp" TargetMode="External"/><Relationship Id="rId14" Type="http://schemas.openxmlformats.org/officeDocument/2006/relationships/hyperlink" Target="http://www.dot.state.oh.us/" TargetMode="External"/><Relationship Id="rId15" Type="http://schemas.openxmlformats.org/officeDocument/2006/relationships/hyperlink" Target="http://www.dot.state.oh.us/dist1/" TargetMode="External"/><Relationship Id="rId16" Type="http://schemas.openxmlformats.org/officeDocument/2006/relationships/hyperlink" Target="http://www.dot.state.oh.us/dist2/" TargetMode="External"/><Relationship Id="rId17" Type="http://schemas.openxmlformats.org/officeDocument/2006/relationships/hyperlink" Target="http://www.dot.state.oh.us/dist3/" TargetMode="External"/><Relationship Id="rId18" Type="http://schemas.openxmlformats.org/officeDocument/2006/relationships/hyperlink" Target="http://www.dot.state.oh.us/dist4/" TargetMode="External"/><Relationship Id="rId19" Type="http://schemas.openxmlformats.org/officeDocument/2006/relationships/hyperlink" Target="http://www.dot.state.oh.us/dist5/" TargetMode="External"/><Relationship Id="rId20" Type="http://schemas.openxmlformats.org/officeDocument/2006/relationships/hyperlink" Target="http://www.dot.state.oh.us/dist6/" TargetMode="External"/><Relationship Id="rId21" Type="http://schemas.openxmlformats.org/officeDocument/2006/relationships/hyperlink" Target="http://www.dot.state.oh.us/dist7/" TargetMode="External"/><Relationship Id="rId22" Type="http://schemas.openxmlformats.org/officeDocument/2006/relationships/hyperlink" Target="http://www.dot.state.oh.us/dist8/" TargetMode="External"/><Relationship Id="rId23" Type="http://schemas.openxmlformats.org/officeDocument/2006/relationships/hyperlink" Target="http://www.dot.state.oh.us/dist9/" TargetMode="External"/><Relationship Id="rId24" Type="http://schemas.openxmlformats.org/officeDocument/2006/relationships/hyperlink" Target="http://www.dot.state.oh.us/dist10/" TargetMode="External"/><Relationship Id="rId25" Type="http://schemas.openxmlformats.org/officeDocument/2006/relationships/hyperlink" Target="http://www.dot.state.oh.us/dist11/" TargetMode="External"/><Relationship Id="rId26" Type="http://schemas.openxmlformats.org/officeDocument/2006/relationships/hyperlink" Target="http://www.dot.state.oh.us/dist12/" TargetMode="External"/><Relationship Id="rId27" Type="http://schemas.openxmlformats.org/officeDocument/2006/relationships/hyperlink" Target="http://www.dot.state.oh.us/DistrictInfo.asp" TargetMode="External"/><Relationship Id="rId28" Type="http://schemas.openxmlformats.org/officeDocument/2006/relationships/hyperlink" Target="http://www.dot.state.oh.us/ODOTDistrictMap+Addresses.pdf" TargetMode="External"/><Relationship Id="rId29" Type="http://schemas.openxmlformats.org/officeDocument/2006/relationships/image" Target="../media/image27.png"/><Relationship Id="rId30" Type="http://schemas.openxmlformats.org/officeDocument/2006/relationships/hyperlink" Target="http://www.dot.state.oh.us/dist1/" TargetMode="External"/><Relationship Id="rId31" Type="http://schemas.openxmlformats.org/officeDocument/2006/relationships/hyperlink" Target="http://www.dot.state.oh.us/dist2/" TargetMode="External"/><Relationship Id="rId32" Type="http://schemas.openxmlformats.org/officeDocument/2006/relationships/hyperlink" Target="http://www.dot.state.oh.us/dist3/" TargetMode="External"/><Relationship Id="rId33" Type="http://schemas.openxmlformats.org/officeDocument/2006/relationships/hyperlink" Target="http://www.dot.state.oh.us/dist4/" TargetMode="External"/><Relationship Id="rId34" Type="http://schemas.openxmlformats.org/officeDocument/2006/relationships/hyperlink" Target="http://www.dot.state.oh.us/dist5/" TargetMode="External"/><Relationship Id="rId35" Type="http://schemas.openxmlformats.org/officeDocument/2006/relationships/hyperlink" Target="http://www.dot.state.oh.us/dist6/" TargetMode="External"/><Relationship Id="rId36" Type="http://schemas.openxmlformats.org/officeDocument/2006/relationships/hyperlink" Target="http://www.dot.state.oh.us/dist7/" TargetMode="External"/><Relationship Id="rId37" Type="http://schemas.openxmlformats.org/officeDocument/2006/relationships/hyperlink" Target="http://www.dot.state.oh.us/dist8/" TargetMode="External"/><Relationship Id="rId38" Type="http://schemas.openxmlformats.org/officeDocument/2006/relationships/hyperlink" Target="http://www.dot.state.oh.us/dist9/" TargetMode="External"/><Relationship Id="rId39" Type="http://schemas.openxmlformats.org/officeDocument/2006/relationships/hyperlink" Target="http://www.dot.state.oh.us/dist10/" TargetMode="External"/><Relationship Id="rId40" Type="http://schemas.openxmlformats.org/officeDocument/2006/relationships/hyperlink" Target="http://www.dot.state.oh.us/dist11/" TargetMode="External"/><Relationship Id="rId41" Type="http://schemas.openxmlformats.org/officeDocument/2006/relationships/hyperlink" Target="http://www.dot.state.oh.us/dist12/" TargetMode="External"/><Relationship Id="rId42" Type="http://schemas.openxmlformats.org/officeDocument/2006/relationships/hyperlink" Target="http://www.dot.state.oh.us/DistrictInfo.asp" TargetMode="External"/><Relationship Id="rId43" Type="http://schemas.openxmlformats.org/officeDocument/2006/relationships/hyperlink" Target="http://www.dot.state.oh.us/ODOTDistrictMap+Addresses.pdf" TargetMode="External"/><Relationship Id="rId44" Type="http://schemas.openxmlformats.org/officeDocument/2006/relationships/hyperlink" Target="mailto:Rhonda.Pees@dot.state.oh.us" TargetMode="External"/><Relationship Id="rId45" Type="http://schemas.openxmlformats.org/officeDocument/2006/relationships/image" Target="../media/image27.png"/><Relationship Id="rId46" Type="http://schemas.openxmlformats.org/officeDocument/2006/relationships/hyperlink" Target="http://www.dot.state.oh.us/dist1/" TargetMode="External"/><Relationship Id="rId47" Type="http://schemas.openxmlformats.org/officeDocument/2006/relationships/hyperlink" Target="http://www.dot.state.oh.us/dist2/" TargetMode="External"/><Relationship Id="rId48" Type="http://schemas.openxmlformats.org/officeDocument/2006/relationships/hyperlink" Target="http://www.dot.state.oh.us/dist3/" TargetMode="External"/><Relationship Id="rId49" Type="http://schemas.openxmlformats.org/officeDocument/2006/relationships/hyperlink" Target="http://www.dot.state.oh.us/dist4/" TargetMode="External"/><Relationship Id="rId50" Type="http://schemas.openxmlformats.org/officeDocument/2006/relationships/hyperlink" Target="http://www.dot.state.oh.us/dist5/" TargetMode="External"/><Relationship Id="rId51" Type="http://schemas.openxmlformats.org/officeDocument/2006/relationships/hyperlink" Target="http://www.dot.state.oh.us/dist6/" TargetMode="External"/><Relationship Id="rId52" Type="http://schemas.openxmlformats.org/officeDocument/2006/relationships/hyperlink" Target="http://www.dot.state.oh.us/dist7/" TargetMode="External"/><Relationship Id="rId53" Type="http://schemas.openxmlformats.org/officeDocument/2006/relationships/hyperlink" Target="http://www.dot.state.oh.us/dist8/" TargetMode="External"/><Relationship Id="rId54" Type="http://schemas.openxmlformats.org/officeDocument/2006/relationships/hyperlink" Target="http://www.dot.state.oh.us/dist9/" TargetMode="External"/><Relationship Id="rId55" Type="http://schemas.openxmlformats.org/officeDocument/2006/relationships/hyperlink" Target="http://www.dot.state.oh.us/dist10/" TargetMode="External"/><Relationship Id="rId56" Type="http://schemas.openxmlformats.org/officeDocument/2006/relationships/hyperlink" Target="http://www.dot.state.oh.us/dist11/" TargetMode="External"/><Relationship Id="rId57" Type="http://schemas.openxmlformats.org/officeDocument/2006/relationships/hyperlink" Target="http://www.dot.state.oh.us/dist12/" TargetMode="External"/><Relationship Id="rId58" Type="http://schemas.openxmlformats.org/officeDocument/2006/relationships/hyperlink" Target="http://www.dot.state.oh.us/DistrictInfo.asp" TargetMode="External"/><Relationship Id="rId59" Type="http://schemas.openxmlformats.org/officeDocument/2006/relationships/hyperlink" Target="http://www.dot.state.oh.us/ODOTDistrictMap+Addresses.pdf" TargetMode="External"/><Relationship Id="rId60" Type="http://schemas.openxmlformats.org/officeDocument/2006/relationships/hyperlink" Target="mailto:joe.rutherford@dot.state.oh.us" TargetMode="External"/><Relationship Id="rId61" Type="http://schemas.openxmlformats.org/officeDocument/2006/relationships/image" Target="../media/image27.png"/><Relationship Id="rId62" Type="http://schemas.openxmlformats.org/officeDocument/2006/relationships/hyperlink" Target="http://www.dot.state.oh.us/dist1/" TargetMode="External"/><Relationship Id="rId63" Type="http://schemas.openxmlformats.org/officeDocument/2006/relationships/hyperlink" Target="http://www.dot.state.oh.us/dist2/" TargetMode="External"/><Relationship Id="rId64" Type="http://schemas.openxmlformats.org/officeDocument/2006/relationships/hyperlink" Target="http://www.dot.state.oh.us/dist3/" TargetMode="External"/><Relationship Id="rId65" Type="http://schemas.openxmlformats.org/officeDocument/2006/relationships/hyperlink" Target="http://www.dot.state.oh.us/dist4/" TargetMode="External"/><Relationship Id="rId66" Type="http://schemas.openxmlformats.org/officeDocument/2006/relationships/hyperlink" Target="http://www.dot.state.oh.us/dist5/" TargetMode="External"/><Relationship Id="rId67" Type="http://schemas.openxmlformats.org/officeDocument/2006/relationships/hyperlink" Target="http://www.dot.state.oh.us/dist6/" TargetMode="External"/><Relationship Id="rId68" Type="http://schemas.openxmlformats.org/officeDocument/2006/relationships/hyperlink" Target="http://www.dot.state.oh.us/dist7/" TargetMode="External"/><Relationship Id="rId69" Type="http://schemas.openxmlformats.org/officeDocument/2006/relationships/hyperlink" Target="http://www.dot.state.oh.us/dist8/" TargetMode="External"/><Relationship Id="rId70" Type="http://schemas.openxmlformats.org/officeDocument/2006/relationships/hyperlink" Target="http://www.dot.state.oh.us/dist9/" TargetMode="External"/><Relationship Id="rId71" Type="http://schemas.openxmlformats.org/officeDocument/2006/relationships/hyperlink" Target="http://www.dot.state.oh.us/dist10/" TargetMode="External"/><Relationship Id="rId72" Type="http://schemas.openxmlformats.org/officeDocument/2006/relationships/hyperlink" Target="http://www.dot.state.oh.us/dist11/" TargetMode="External"/><Relationship Id="rId73" Type="http://schemas.openxmlformats.org/officeDocument/2006/relationships/hyperlink" Target="http://www.dot.state.oh.us/dist12/" TargetMode="External"/><Relationship Id="rId74" Type="http://schemas.openxmlformats.org/officeDocument/2006/relationships/hyperlink" Target="http://www.dot.state.oh.us/DistrictInfo.asp" TargetMode="External"/><Relationship Id="rId75" Type="http://schemas.openxmlformats.org/officeDocument/2006/relationships/hyperlink" Target="http://www.dot.state.oh.us/ODOTDistrictMap+Addresses.pdf" TargetMode="External"/><Relationship Id="rId76" Type="http://schemas.openxmlformats.org/officeDocument/2006/relationships/hyperlink" Target="mailto:Brian.Stacy@dot.state.oh.us" TargetMode="External"/><Relationship Id="rId77" Type="http://schemas.openxmlformats.org/officeDocument/2006/relationships/image" Target="../media/image27.png"/><Relationship Id="rId78" Type="http://schemas.openxmlformats.org/officeDocument/2006/relationships/hyperlink" Target="http://www.dot.state.oh.us/dist1/" TargetMode="External"/><Relationship Id="rId79" Type="http://schemas.openxmlformats.org/officeDocument/2006/relationships/hyperlink" Target="http://www.dot.state.oh.us/dist2/" TargetMode="External"/><Relationship Id="rId80" Type="http://schemas.openxmlformats.org/officeDocument/2006/relationships/hyperlink" Target="http://www.dot.state.oh.us/dist3/" TargetMode="External"/><Relationship Id="rId81" Type="http://schemas.openxmlformats.org/officeDocument/2006/relationships/hyperlink" Target="http://www.dot.state.oh.us/dist4/" TargetMode="External"/><Relationship Id="rId82" Type="http://schemas.openxmlformats.org/officeDocument/2006/relationships/hyperlink" Target="http://www.dot.state.oh.us/dist5/" TargetMode="External"/><Relationship Id="rId83" Type="http://schemas.openxmlformats.org/officeDocument/2006/relationships/hyperlink" Target="http://www.dot.state.oh.us/dist6/" TargetMode="External"/><Relationship Id="rId84" Type="http://schemas.openxmlformats.org/officeDocument/2006/relationships/hyperlink" Target="http://www.dot.state.oh.us/dist7/" TargetMode="External"/><Relationship Id="rId85" Type="http://schemas.openxmlformats.org/officeDocument/2006/relationships/hyperlink" Target="http://www.dot.state.oh.us/dist8/" TargetMode="External"/><Relationship Id="rId86" Type="http://schemas.openxmlformats.org/officeDocument/2006/relationships/hyperlink" Target="http://www.dot.state.oh.us/dist9/" TargetMode="External"/><Relationship Id="rId87" Type="http://schemas.openxmlformats.org/officeDocument/2006/relationships/hyperlink" Target="http://www.dot.state.oh.us/dist10/" TargetMode="External"/><Relationship Id="rId88" Type="http://schemas.openxmlformats.org/officeDocument/2006/relationships/hyperlink" Target="http://www.dot.state.oh.us/dist11/" TargetMode="External"/><Relationship Id="rId89" Type="http://schemas.openxmlformats.org/officeDocument/2006/relationships/hyperlink" Target="http://www.dot.state.oh.us/dist12/" TargetMode="External"/><Relationship Id="rId90" Type="http://schemas.openxmlformats.org/officeDocument/2006/relationships/hyperlink" Target="http://www.dot.state.oh.us/DistrictInfo.asp" TargetMode="External"/><Relationship Id="rId91" Type="http://schemas.openxmlformats.org/officeDocument/2006/relationships/hyperlink" Target="http://www.dot.state.oh.us/ODOTDistrictMap+Addresses.pdf" TargetMode="External"/><Relationship Id="rId92" Type="http://schemas.openxmlformats.org/officeDocument/2006/relationships/hyperlink" Target="mailto:jennifer.richmond@dot.state.oh.us" TargetMode="External"/><Relationship Id="rId93" Type="http://schemas.openxmlformats.org/officeDocument/2006/relationships/image" Target="../media/image27.png"/><Relationship Id="rId94" Type="http://schemas.openxmlformats.org/officeDocument/2006/relationships/image" Target="../media/image27.png"/><Relationship Id="rId95" Type="http://schemas.openxmlformats.org/officeDocument/2006/relationships/image" Target="../media/image27.png"/><Relationship Id="rId96" Type="http://schemas.openxmlformats.org/officeDocument/2006/relationships/image" Target="../media/image27.png"/><Relationship Id="rId97" Type="http://schemas.openxmlformats.org/officeDocument/2006/relationships/image" Target="../media/image27.png"/><Relationship Id="rId98" Type="http://schemas.openxmlformats.org/officeDocument/2006/relationships/hyperlink" Target="http://www.dot.state.oh.us/dist1/" TargetMode="External"/><Relationship Id="rId99" Type="http://schemas.openxmlformats.org/officeDocument/2006/relationships/hyperlink" Target="http://www.dot.state.oh.us/dist2/" TargetMode="External"/><Relationship Id="rId100" Type="http://schemas.openxmlformats.org/officeDocument/2006/relationships/hyperlink" Target="http://www.dot.state.oh.us/dist3/" TargetMode="External"/><Relationship Id="rId101" Type="http://schemas.openxmlformats.org/officeDocument/2006/relationships/hyperlink" Target="http://www.dot.state.oh.us/dist4/" TargetMode="External"/><Relationship Id="rId102" Type="http://schemas.openxmlformats.org/officeDocument/2006/relationships/hyperlink" Target="http://www.dot.state.oh.us/dist5/" TargetMode="External"/><Relationship Id="rId103" Type="http://schemas.openxmlformats.org/officeDocument/2006/relationships/hyperlink" Target="http://www.dot.state.oh.us/dist6/" TargetMode="External"/><Relationship Id="rId104" Type="http://schemas.openxmlformats.org/officeDocument/2006/relationships/hyperlink" Target="http://www.dot.state.oh.us/dist7/" TargetMode="External"/><Relationship Id="rId105" Type="http://schemas.openxmlformats.org/officeDocument/2006/relationships/hyperlink" Target="http://www.dot.state.oh.us/dist8/" TargetMode="External"/><Relationship Id="rId106" Type="http://schemas.openxmlformats.org/officeDocument/2006/relationships/hyperlink" Target="http://www.dot.state.oh.us/dist9/" TargetMode="External"/><Relationship Id="rId107" Type="http://schemas.openxmlformats.org/officeDocument/2006/relationships/hyperlink" Target="http://www.dot.state.oh.us/dist10/" TargetMode="External"/><Relationship Id="rId108" Type="http://schemas.openxmlformats.org/officeDocument/2006/relationships/hyperlink" Target="http://www.dot.state.oh.us/dist11/" TargetMode="External"/><Relationship Id="rId109" Type="http://schemas.openxmlformats.org/officeDocument/2006/relationships/hyperlink" Target="http://www.dot.state.oh.us/dist12/" TargetMode="External"/><Relationship Id="rId110" Type="http://schemas.openxmlformats.org/officeDocument/2006/relationships/hyperlink" Target="http://www.dot.state.oh.us/DistrictInfo.asp" TargetMode="External"/><Relationship Id="rId111" Type="http://schemas.openxmlformats.org/officeDocument/2006/relationships/hyperlink" Target="http://www.dot.state.oh.us/ODOTDistrictMap+Addresses.pdf" TargetMode="External"/><Relationship Id="rId112" Type="http://schemas.openxmlformats.org/officeDocument/2006/relationships/hyperlink" Target="mailto:Ron.Mosby@dot.state.oh.us" TargetMode="External"/><Relationship Id="rId113" Type="http://schemas.openxmlformats.org/officeDocument/2006/relationships/hyperlink" Target="mailto:Ron.Mosby@dot.state.oh.us" TargetMode="External"/><Relationship Id="rId114" Type="http://schemas.openxmlformats.org/officeDocument/2006/relationships/image" Target="../media/image27.png"/><Relationship Id="rId115" Type="http://schemas.openxmlformats.org/officeDocument/2006/relationships/hyperlink" Target="http://www.dot.state.oh.us/dist1/" TargetMode="External"/><Relationship Id="rId116" Type="http://schemas.openxmlformats.org/officeDocument/2006/relationships/hyperlink" Target="http://www.dot.state.oh.us/dist2/" TargetMode="External"/><Relationship Id="rId117" Type="http://schemas.openxmlformats.org/officeDocument/2006/relationships/hyperlink" Target="http://www.dot.state.oh.us/dist3/" TargetMode="External"/><Relationship Id="rId118" Type="http://schemas.openxmlformats.org/officeDocument/2006/relationships/hyperlink" Target="http://www.dot.state.oh.us/dist4/" TargetMode="External"/><Relationship Id="rId119" Type="http://schemas.openxmlformats.org/officeDocument/2006/relationships/hyperlink" Target="http://www.dot.state.oh.us/dist5/" TargetMode="External"/><Relationship Id="rId120" Type="http://schemas.openxmlformats.org/officeDocument/2006/relationships/hyperlink" Target="http://www.dot.state.oh.us/dist6/" TargetMode="External"/><Relationship Id="rId121" Type="http://schemas.openxmlformats.org/officeDocument/2006/relationships/hyperlink" Target="http://www.dot.state.oh.us/dist7/" TargetMode="External"/><Relationship Id="rId122" Type="http://schemas.openxmlformats.org/officeDocument/2006/relationships/hyperlink" Target="http://www.dot.state.oh.us/dist8/" TargetMode="External"/><Relationship Id="rId123" Type="http://schemas.openxmlformats.org/officeDocument/2006/relationships/hyperlink" Target="http://www.dot.state.oh.us/dist9/" TargetMode="External"/><Relationship Id="rId124" Type="http://schemas.openxmlformats.org/officeDocument/2006/relationships/hyperlink" Target="http://www.dot.state.oh.us/dist10/" TargetMode="External"/><Relationship Id="rId125" Type="http://schemas.openxmlformats.org/officeDocument/2006/relationships/hyperlink" Target="http://www.dot.state.oh.us/dist11/" TargetMode="External"/><Relationship Id="rId126" Type="http://schemas.openxmlformats.org/officeDocument/2006/relationships/hyperlink" Target="http://www.dot.state.oh.us/dist12/" TargetMode="External"/><Relationship Id="rId127" Type="http://schemas.openxmlformats.org/officeDocument/2006/relationships/hyperlink" Target="http://www.dot.state.oh.us/DistrictInfo.asp" TargetMode="External"/><Relationship Id="rId128" Type="http://schemas.openxmlformats.org/officeDocument/2006/relationships/hyperlink" Target="http://www.dot.state.oh.us/ODOTDistrictMap+Addresses.pdf" TargetMode="External"/><Relationship Id="rId129" Type="http://schemas.openxmlformats.org/officeDocument/2006/relationships/hyperlink" Target="mailto:Kathleen.Fuller@dot.state.oh.us" TargetMode="External"/><Relationship Id="rId130" Type="http://schemas.openxmlformats.org/officeDocument/2006/relationships/image" Target="../media/image27.png"/><Relationship Id="rId131" Type="http://schemas.openxmlformats.org/officeDocument/2006/relationships/hyperlink" Target="http://www.dot.state.oh.us/dist1/" TargetMode="External"/><Relationship Id="rId132" Type="http://schemas.openxmlformats.org/officeDocument/2006/relationships/hyperlink" Target="http://www.dot.state.oh.us/dist2/" TargetMode="External"/><Relationship Id="rId133" Type="http://schemas.openxmlformats.org/officeDocument/2006/relationships/hyperlink" Target="http://www.dot.state.oh.us/dist3/" TargetMode="External"/><Relationship Id="rId134" Type="http://schemas.openxmlformats.org/officeDocument/2006/relationships/hyperlink" Target="http://www.dot.state.oh.us/dist4/" TargetMode="External"/><Relationship Id="rId135" Type="http://schemas.openxmlformats.org/officeDocument/2006/relationships/hyperlink" Target="http://www.dot.state.oh.us/dist5/" TargetMode="External"/><Relationship Id="rId136" Type="http://schemas.openxmlformats.org/officeDocument/2006/relationships/hyperlink" Target="http://www.dot.state.oh.us/dist6/" TargetMode="External"/><Relationship Id="rId137" Type="http://schemas.openxmlformats.org/officeDocument/2006/relationships/hyperlink" Target="http://www.dot.state.oh.us/dist7/" TargetMode="External"/><Relationship Id="rId138" Type="http://schemas.openxmlformats.org/officeDocument/2006/relationships/hyperlink" Target="http://www.dot.state.oh.us/dist8/" TargetMode="External"/><Relationship Id="rId139" Type="http://schemas.openxmlformats.org/officeDocument/2006/relationships/hyperlink" Target="http://www.dot.state.oh.us/dist9/" TargetMode="External"/><Relationship Id="rId140" Type="http://schemas.openxmlformats.org/officeDocument/2006/relationships/hyperlink" Target="http://www.dot.state.oh.us/dist10/" TargetMode="External"/><Relationship Id="rId141" Type="http://schemas.openxmlformats.org/officeDocument/2006/relationships/hyperlink" Target="http://www.dot.state.oh.us/dist11/" TargetMode="External"/><Relationship Id="rId142" Type="http://schemas.openxmlformats.org/officeDocument/2006/relationships/hyperlink" Target="http://www.dot.state.oh.us/dist12/" TargetMode="External"/><Relationship Id="rId143" Type="http://schemas.openxmlformats.org/officeDocument/2006/relationships/hyperlink" Target="http://www.dot.state.oh.us/DistrictInfo.asp" TargetMode="External"/><Relationship Id="rId144" Type="http://schemas.openxmlformats.org/officeDocument/2006/relationships/hyperlink" Target="http://www.dot.state.oh.us/ODOTDistrictMap+Addresses.pdf" TargetMode="External"/><Relationship Id="rId145" Type="http://schemas.openxmlformats.org/officeDocument/2006/relationships/hyperlink" Target="mailto:Stephanie.Filson@dot.state.oh.us" TargetMode="External"/><Relationship Id="rId146" Type="http://schemas.openxmlformats.org/officeDocument/2006/relationships/hyperlink" Target="mailto:Stephanie.Filson@dot.state.oh.us" TargetMode="External"/><Relationship Id="rId147" Type="http://schemas.openxmlformats.org/officeDocument/2006/relationships/image" Target="../media/image27.png"/><Relationship Id="rId148" Type="http://schemas.openxmlformats.org/officeDocument/2006/relationships/hyperlink" Target="http://www.dot.state.oh.us/dist1/" TargetMode="External"/><Relationship Id="rId149" Type="http://schemas.openxmlformats.org/officeDocument/2006/relationships/hyperlink" Target="http://www.dot.state.oh.us/dist2/" TargetMode="External"/><Relationship Id="rId150" Type="http://schemas.openxmlformats.org/officeDocument/2006/relationships/hyperlink" Target="http://www.dot.state.oh.us/dist3/" TargetMode="External"/><Relationship Id="rId151" Type="http://schemas.openxmlformats.org/officeDocument/2006/relationships/hyperlink" Target="http://www.dot.state.oh.us/dist4/" TargetMode="External"/><Relationship Id="rId152" Type="http://schemas.openxmlformats.org/officeDocument/2006/relationships/hyperlink" Target="http://www.dot.state.oh.us/dist5/" TargetMode="External"/><Relationship Id="rId153" Type="http://schemas.openxmlformats.org/officeDocument/2006/relationships/hyperlink" Target="http://www.dot.state.oh.us/dist6/" TargetMode="External"/><Relationship Id="rId154" Type="http://schemas.openxmlformats.org/officeDocument/2006/relationships/hyperlink" Target="http://www.dot.state.oh.us/dist7/" TargetMode="External"/><Relationship Id="rId155" Type="http://schemas.openxmlformats.org/officeDocument/2006/relationships/hyperlink" Target="http://www.dot.state.oh.us/dist8/" TargetMode="External"/><Relationship Id="rId156" Type="http://schemas.openxmlformats.org/officeDocument/2006/relationships/hyperlink" Target="http://www.dot.state.oh.us/dist9/" TargetMode="External"/><Relationship Id="rId157" Type="http://schemas.openxmlformats.org/officeDocument/2006/relationships/hyperlink" Target="http://www.dot.state.oh.us/dist10/" TargetMode="External"/><Relationship Id="rId158" Type="http://schemas.openxmlformats.org/officeDocument/2006/relationships/hyperlink" Target="http://www.dot.state.oh.us/dist11/" TargetMode="External"/><Relationship Id="rId159" Type="http://schemas.openxmlformats.org/officeDocument/2006/relationships/hyperlink" Target="http://www.dot.state.oh.us/dist12/" TargetMode="External"/><Relationship Id="rId160" Type="http://schemas.openxmlformats.org/officeDocument/2006/relationships/hyperlink" Target="http://www.dot.state.oh.us/DistrictInfo.asp" TargetMode="External"/><Relationship Id="rId161" Type="http://schemas.openxmlformats.org/officeDocument/2006/relationships/hyperlink" Target="http://www.dot.state.oh.us/ODOTDistrictMap+Addresses.pdf" TargetMode="External"/><Relationship Id="rId162" Type="http://schemas.openxmlformats.org/officeDocument/2006/relationships/hyperlink" Target="mailto:Becky.McCarty@dot.state.oh.us" TargetMode="External"/><Relationship Id="rId163" Type="http://schemas.openxmlformats.org/officeDocument/2006/relationships/image" Target="../media/image27.png"/><Relationship Id="rId164" Type="http://schemas.openxmlformats.org/officeDocument/2006/relationships/hyperlink" Target="http://www.dot.state.oh.us/dist1/" TargetMode="External"/><Relationship Id="rId165" Type="http://schemas.openxmlformats.org/officeDocument/2006/relationships/hyperlink" Target="http://www.dot.state.oh.us/dist2/" TargetMode="External"/><Relationship Id="rId166" Type="http://schemas.openxmlformats.org/officeDocument/2006/relationships/hyperlink" Target="http://www.dot.state.oh.us/dist3/" TargetMode="External"/><Relationship Id="rId167" Type="http://schemas.openxmlformats.org/officeDocument/2006/relationships/hyperlink" Target="http://www.dot.state.oh.us/dist4/" TargetMode="External"/><Relationship Id="rId168" Type="http://schemas.openxmlformats.org/officeDocument/2006/relationships/hyperlink" Target="http://www.dot.state.oh.us/dist5/" TargetMode="External"/><Relationship Id="rId169" Type="http://schemas.openxmlformats.org/officeDocument/2006/relationships/hyperlink" Target="http://www.dot.state.oh.us/dist6/" TargetMode="External"/><Relationship Id="rId170" Type="http://schemas.openxmlformats.org/officeDocument/2006/relationships/hyperlink" Target="http://www.dot.state.oh.us/dist7/" TargetMode="External"/><Relationship Id="rId171" Type="http://schemas.openxmlformats.org/officeDocument/2006/relationships/hyperlink" Target="http://www.dot.state.oh.us/dist8/" TargetMode="External"/><Relationship Id="rId172" Type="http://schemas.openxmlformats.org/officeDocument/2006/relationships/hyperlink" Target="http://www.dot.state.oh.us/dist9/" TargetMode="External"/><Relationship Id="rId173" Type="http://schemas.openxmlformats.org/officeDocument/2006/relationships/hyperlink" Target="http://www.dot.state.oh.us/dist10/" TargetMode="External"/><Relationship Id="rId174" Type="http://schemas.openxmlformats.org/officeDocument/2006/relationships/hyperlink" Target="http://www.dot.state.oh.us/dist11/" TargetMode="External"/><Relationship Id="rId175" Type="http://schemas.openxmlformats.org/officeDocument/2006/relationships/hyperlink" Target="http://www.dot.state.oh.us/dist12/" TargetMode="External"/><Relationship Id="rId176" Type="http://schemas.openxmlformats.org/officeDocument/2006/relationships/hyperlink" Target="http://www.dot.state.oh.us/DistrictInfo.asp" TargetMode="External"/><Relationship Id="rId177" Type="http://schemas.openxmlformats.org/officeDocument/2006/relationships/hyperlink" Target="http://www.dot.state.oh.us/ODOTDistrictMap+Addresses.pdf" TargetMode="External"/><Relationship Id="rId178" Type="http://schemas.openxmlformats.org/officeDocument/2006/relationships/hyperlink" Target="mailto:Lora.Hummer@dot.state.oh.us" TargetMode="External"/><Relationship Id="rId179" Type="http://schemas.openxmlformats.org/officeDocument/2006/relationships/hyperlink" Target="http://www.dot.state.oh.us/info/distph2.htm" TargetMode="External"/><Relationship Id="rId180" Type="http://schemas.openxmlformats.org/officeDocument/2006/relationships/hyperlink" Target="http://www.odotonline.org/phone/phonesearch.asp" TargetMode="External"/><Relationship Id="rId181" Type="http://schemas.openxmlformats.org/officeDocument/2006/relationships/hyperlink" Target="http://www.dot.state.oh.us/directions.asp" TargetMode="External"/><Relationship Id="rId182" Type="http://schemas.openxmlformats.org/officeDocument/2006/relationships/hyperlink" Target="http://www.state.oh.us/gov" TargetMode="External"/><Relationship Id="rId183" Type="http://schemas.openxmlformats.org/officeDocument/2006/relationships/hyperlink" Target="http://www.dot.state.oh.us/director.HTM" TargetMode="External"/><Relationship Id="rId184" Type="http://schemas.openxmlformats.org/officeDocument/2006/relationships/image" Target="../media/image28.png"/><Relationship Id="rId185" Type="http://schemas.openxmlformats.org/officeDocument/2006/relationships/hyperlink" Target="http://www.dot.state.oh.us/" TargetMode="External"/><Relationship Id="rId186" Type="http://schemas.openxmlformats.org/officeDocument/2006/relationships/image" Target="../media/image29.png"/><Relationship Id="rId187" Type="http://schemas.openxmlformats.org/officeDocument/2006/relationships/hyperlink" Target="http://www.dot.state.oh.us/" TargetMode="External"/><Relationship Id="rId188" Type="http://schemas.openxmlformats.org/officeDocument/2006/relationships/image" Target="../media/image29.png"/><Relationship Id="rId189" Type="http://schemas.openxmlformats.org/officeDocument/2006/relationships/image" Target="../media/image30.png"/><Relationship Id="rId190" Type="http://schemas.openxmlformats.org/officeDocument/2006/relationships/image" Target="../media/image31.png"/><Relationship Id="rId191" Type="http://schemas.openxmlformats.org/officeDocument/2006/relationships/image" Target="../media/image32.png"/><Relationship Id="rId192" Type="http://schemas.openxmlformats.org/officeDocument/2006/relationships/image" Target="../media/image33.png"/><Relationship Id="rId193" Type="http://schemas.openxmlformats.org/officeDocument/2006/relationships/hyperlink" Target="http://www.dot.state.oh.us/dist10/" TargetMode="External"/><Relationship Id="rId194" Type="http://schemas.openxmlformats.org/officeDocument/2006/relationships/hyperlink" Target="http://www.dot.state.oh.us/dist9/" TargetMode="External"/><Relationship Id="rId195" Type="http://schemas.openxmlformats.org/officeDocument/2006/relationships/hyperlink" Target="http://www.dot.state.oh.us/dist8/" TargetMode="External"/><Relationship Id="rId196" Type="http://schemas.openxmlformats.org/officeDocument/2006/relationships/hyperlink" Target="http://www.dot.state.oh.us/dist7/" TargetMode="External"/><Relationship Id="rId197" Type="http://schemas.openxmlformats.org/officeDocument/2006/relationships/hyperlink" Target="http://www.dot.state.oh.us/dist6/" TargetMode="External"/><Relationship Id="rId198" Type="http://schemas.openxmlformats.org/officeDocument/2006/relationships/hyperlink" Target="http://www.dot.state.oh.us/dist11/" TargetMode="External"/><Relationship Id="rId199" Type="http://schemas.openxmlformats.org/officeDocument/2006/relationships/hyperlink" Target="http://www.dot.state.oh.us/dist5/" TargetMode="External"/><Relationship Id="rId200" Type="http://schemas.openxmlformats.org/officeDocument/2006/relationships/hyperlink" Target="http://www.dot.state.oh.us/dist4/" TargetMode="External"/><Relationship Id="rId201" Type="http://schemas.openxmlformats.org/officeDocument/2006/relationships/hyperlink" Target="http://www.dot.state.oh.us/dist3/" TargetMode="External"/><Relationship Id="rId202" Type="http://schemas.openxmlformats.org/officeDocument/2006/relationships/hyperlink" Target="http://www.dot.state.oh.us/dist1/" TargetMode="External"/><Relationship Id="rId203" Type="http://schemas.openxmlformats.org/officeDocument/2006/relationships/hyperlink" Target="http://www.dot.state.oh.us/dist12/" TargetMode="External"/><Relationship Id="rId204" Type="http://schemas.openxmlformats.org/officeDocument/2006/relationships/hyperlink" Target="http://www.dot.state.oh.us/dist2/" TargetMode="External"/><Relationship Id="rId205" Type="http://schemas.openxmlformats.org/officeDocument/2006/relationships/image" Target="../media/image31.png"/><Relationship Id="rId206" Type="http://schemas.openxmlformats.org/officeDocument/2006/relationships/image" Target="../media/image34.png"/><Relationship Id="rId207" Type="http://schemas.openxmlformats.org/officeDocument/2006/relationships/image" Target="../media/image35.png"/><Relationship Id="rId208" Type="http://schemas.openxmlformats.org/officeDocument/2006/relationships/image" Target="../media/image3.png"/><Relationship Id="rId209" Type="http://schemas.openxmlformats.org/officeDocument/2006/relationships/image" Target="../media/image36.png"/><Relationship Id="rId210" Type="http://schemas.openxmlformats.org/officeDocument/2006/relationships/image" Target="../media/image7.png"/><Relationship Id="rId211" Type="http://schemas.openxmlformats.org/officeDocument/2006/relationships/image" Target="../media/image37.png"/><Relationship Id="rId21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shville-Davidson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457200"/>
            <a:ext cx="6697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Back to Ma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24000" y="717480"/>
            <a:ext cx="1857240" cy="457200"/>
            <a:chOff x="1224000" y="717480"/>
            <a:chExt cx="1857240" cy="457200"/>
          </a:xfrm>
        </p:grpSpPr>
        <p:sp>
          <p:nvSpPr>
            <p:cNvPr id="44" name=""/>
            <p:cNvSpPr/>
            <p:nvPr/>
          </p:nvSpPr>
          <p:spPr>
            <a:xfrm>
              <a:off x="1224000" y="717480"/>
              <a:ext cx="44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68600" y="717480"/>
              <a:ext cx="141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  <a:ea typeface="Arial"/>
                </a:rPr>
                <a:t>Nashville, T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24000" y="117468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apimage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610092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24000" y="1263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" descr="star"/>
          <p:cNvPicPr/>
          <p:nvPr/>
        </p:nvPicPr>
        <p:blipFill>
          <a:blip r:embed="rId3"/>
          <a:stretch/>
        </p:blipFill>
        <p:spPr>
          <a:xfrm>
            <a:off x="1392120" y="763560"/>
            <a:ext cx="17172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--Salem, OR--WA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15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leg36289780" descr=""/>
          <p:cNvPicPr/>
          <p:nvPr/>
        </p:nvPicPr>
        <p:blipFill>
          <a:blip r:embed="rId1"/>
          <a:stretch/>
        </p:blipFill>
        <p:spPr>
          <a:xfrm>
            <a:off x="168120" y="1295280"/>
            <a:ext cx="1428840" cy="4953240"/>
          </a:xfrm>
          <a:prstGeom prst="rect">
            <a:avLst/>
          </a:prstGeom>
          <a:ln w="0">
            <a:noFill/>
          </a:ln>
        </p:spPr>
      </p:pic>
      <p:pic>
        <p:nvPicPr>
          <p:cNvPr id="118" name="36289780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6705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nver CO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4000" y="457200"/>
            <a:ext cx="907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Denver, C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apimage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558120" cy="5029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ver--Boulder--Greeley, CO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1295280"/>
            <a:ext cx="9131400" cy="4206960"/>
            <a:chOff x="0" y="1295280"/>
            <a:chExt cx="9131400" cy="4206960"/>
          </a:xfrm>
        </p:grpSpPr>
        <p:sp>
          <p:nvSpPr>
            <p:cNvPr id="127" name=""/>
            <p:cNvSpPr/>
            <p:nvPr/>
          </p:nvSpPr>
          <p:spPr>
            <a:xfrm>
              <a:off x="0" y="129528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8600" y="129528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leg36289457" descr=""/>
          <p:cNvPicPr/>
          <p:nvPr/>
        </p:nvPicPr>
        <p:blipFill>
          <a:blip r:embed="rId1"/>
          <a:stretch/>
        </p:blipFill>
        <p:spPr>
          <a:xfrm>
            <a:off x="168120" y="1371600"/>
            <a:ext cx="1428840" cy="4724280"/>
          </a:xfrm>
          <a:prstGeom prst="rect">
            <a:avLst/>
          </a:prstGeom>
          <a:ln w="0">
            <a:noFill/>
          </a:ln>
        </p:spPr>
      </p:pic>
      <p:pic>
        <p:nvPicPr>
          <p:cNvPr id="130" name="36289457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6095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uisville-Jefferson Co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24000" y="457200"/>
            <a:ext cx="10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Louisville, K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mapimag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81800" cy="518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ville, KY--IN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914400"/>
            <a:ext cx="9131400" cy="5149440"/>
            <a:chOff x="0" y="914400"/>
            <a:chExt cx="9131400" cy="5149440"/>
          </a:xfrm>
        </p:grpSpPr>
        <p:sp>
          <p:nvSpPr>
            <p:cNvPr id="139" name=""/>
            <p:cNvSpPr/>
            <p:nvPr/>
          </p:nvSpPr>
          <p:spPr>
            <a:xfrm>
              <a:off x="0" y="914400"/>
              <a:ext cx="2298600" cy="51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98600" y="914400"/>
              <a:ext cx="6832800" cy="51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leg36289620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142" name="36289620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69343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anapolis-Marion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24000" y="457200"/>
            <a:ext cx="11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Indianapolis, 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mapimag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81800" cy="518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napolis, IN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51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leg36289536" descr=""/>
          <p:cNvPicPr/>
          <p:nvPr/>
        </p:nvPicPr>
        <p:blipFill>
          <a:blip r:embed="rId1"/>
          <a:stretch/>
        </p:blipFill>
        <p:spPr>
          <a:xfrm>
            <a:off x="168120" y="1676520"/>
            <a:ext cx="1660680" cy="3187440"/>
          </a:xfrm>
          <a:prstGeom prst="rect">
            <a:avLst/>
          </a:prstGeom>
          <a:ln w="0">
            <a:noFill/>
          </a:ln>
        </p:spPr>
      </p:pic>
      <p:pic>
        <p:nvPicPr>
          <p:cNvPr id="154" name="36289536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64296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cksonville-Duval Co.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7816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457200"/>
            <a:ext cx="119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Jacksonville, F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mapimage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ville, FL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64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leg36289815" descr=""/>
          <p:cNvPicPr/>
          <p:nvPr/>
        </p:nvPicPr>
        <p:blipFill>
          <a:blip r:embed="rId1"/>
          <a:stretch/>
        </p:blipFill>
        <p:spPr>
          <a:xfrm>
            <a:off x="168120" y="1143000"/>
            <a:ext cx="1660680" cy="5029200"/>
          </a:xfrm>
          <a:prstGeom prst="rect">
            <a:avLst/>
          </a:prstGeom>
          <a:ln w="0">
            <a:noFill/>
          </a:ln>
        </p:spPr>
      </p:pic>
      <p:pic>
        <p:nvPicPr>
          <p:cNvPr id="167" name="36289815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662940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ami-Dade Co.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4000" y="457200"/>
            <a:ext cx="803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Miami, F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mapimag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24480" cy="5181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hville, TN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53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leg36289735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56" name="36289735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67820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ami--Fort Lauderdale, FL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76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leg36289848" descr=""/>
          <p:cNvPicPr/>
          <p:nvPr/>
        </p:nvPicPr>
        <p:blipFill>
          <a:blip r:embed="rId1"/>
          <a:stretch/>
        </p:blipFill>
        <p:spPr>
          <a:xfrm>
            <a:off x="168120" y="1371600"/>
            <a:ext cx="1584360" cy="4648320"/>
          </a:xfrm>
          <a:prstGeom prst="rect">
            <a:avLst/>
          </a:prstGeom>
          <a:ln w="0">
            <a:noFill/>
          </a:ln>
        </p:spPr>
      </p:pic>
      <p:pic>
        <p:nvPicPr>
          <p:cNvPr id="179" name="36289848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eveland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4000" y="457200"/>
            <a:ext cx="1076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Cleveland, O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mapimage" descr=""/>
          <p:cNvPicPr/>
          <p:nvPr/>
        </p:nvPicPr>
        <p:blipFill>
          <a:blip r:embed="rId1"/>
          <a:stretch/>
        </p:blipFill>
        <p:spPr>
          <a:xfrm>
            <a:off x="1224000" y="1295280"/>
            <a:ext cx="662940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veland--Akron, OH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88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leg36254497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191" name="36254497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6248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chorage PM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312840" y="-640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-312840" y="-64060560"/>
            <a:ext cx="9142560" cy="4292640"/>
            <a:chOff x="-312840" y="-64060560"/>
            <a:chExt cx="9142560" cy="4292640"/>
          </a:xfrm>
        </p:grpSpPr>
        <p:sp>
          <p:nvSpPr>
            <p:cNvPr id="195" name=""/>
            <p:cNvSpPr/>
            <p:nvPr/>
          </p:nvSpPr>
          <p:spPr>
            <a:xfrm>
              <a:off x="-312840" y="-64060560"/>
              <a:ext cx="31752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80" y="-64060560"/>
              <a:ext cx="5619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66640" y="-64060560"/>
              <a:ext cx="7381800" cy="1552680"/>
              <a:chOff x="566640" y="-64060560"/>
              <a:chExt cx="7381800" cy="1552680"/>
            </a:xfrm>
          </p:grpSpPr>
          <p:sp>
            <p:nvSpPr>
              <p:cNvPr id="198" name=""/>
              <p:cNvSpPr/>
              <p:nvPr/>
            </p:nvSpPr>
            <p:spPr>
              <a:xfrm>
                <a:off x="566640" y="-64060560"/>
                <a:ext cx="7381800" cy="155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6640" y="-64060560"/>
                <a:ext cx="7381800" cy="155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construction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contract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district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engineering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financial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/>
                  </a:rPr>
                  <a:t>intrane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8"/>
                  </a:rPr>
                  <a:t>odot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9"/>
                  </a:rPr>
                  <a:t> home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0"/>
                  </a:rPr>
                  <a:t>office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1"/>
                  </a:rPr>
                  <a:t>oti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2"/>
                  </a:rPr>
                  <a:t>policy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3"/>
                  </a:rPr>
                  <a:t>servi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948440" y="-64060560"/>
              <a:ext cx="5619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4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510400" y="-64060560"/>
              <a:ext cx="31752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-312840" y="-62507880"/>
              <a:ext cx="9142560" cy="2739960"/>
              <a:chOff x="-312840" y="-62507880"/>
              <a:chExt cx="9142560" cy="2739960"/>
            </a:xfrm>
          </p:grpSpPr>
          <p:sp>
            <p:nvSpPr>
              <p:cNvPr id="203" name=""/>
              <p:cNvSpPr/>
              <p:nvPr/>
            </p:nvSpPr>
            <p:spPr>
              <a:xfrm>
                <a:off x="-312840" y="-62507880"/>
                <a:ext cx="91425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-312840" y="-62050680"/>
                <a:ext cx="3165480" cy="2282760"/>
                <a:chOff x="-312840" y="-62050680"/>
                <a:chExt cx="3165480" cy="22827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-312840" y="-62050680"/>
                  <a:ext cx="3165480" cy="22827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-312840" y="-62050680"/>
                  <a:ext cx="3165480" cy="22827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3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2852640" y="-62050680"/>
                <a:ext cx="5977080" cy="22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Ohio Department of Transportation has 12 Districts.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Use the map and listings for links and contact information for each of the districts.</a:t>
                </a: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-312840" y="-5976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312840" y="-5976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133640" y="-59767920"/>
            <a:ext cx="6249960" cy="5349960"/>
            <a:chOff x="1133640" y="-59767920"/>
            <a:chExt cx="6249960" cy="5349960"/>
          </a:xfrm>
        </p:grpSpPr>
        <p:sp>
          <p:nvSpPr>
            <p:cNvPr id="211" name=""/>
            <p:cNvSpPr/>
            <p:nvPr/>
          </p:nvSpPr>
          <p:spPr>
            <a:xfrm>
              <a:off x="1133640" y="-59767920"/>
              <a:ext cx="4226040" cy="53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1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59680" y="-59767920"/>
              <a:ext cx="2023920" cy="53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-312840" y="-59318640"/>
            <a:ext cx="9159840" cy="4444920"/>
            <a:chOff x="-312840" y="-59318640"/>
            <a:chExt cx="9159840" cy="4444920"/>
          </a:xfrm>
        </p:grpSpPr>
        <p:grpSp>
          <p:nvGrpSpPr>
            <p:cNvPr id="214" name=""/>
            <p:cNvGrpSpPr/>
            <p:nvPr/>
          </p:nvGrpSpPr>
          <p:grpSpPr>
            <a:xfrm>
              <a:off x="-304920" y="-59310360"/>
              <a:ext cx="9144000" cy="4429080"/>
              <a:chOff x="-304920" y="-59310360"/>
              <a:chExt cx="9144000" cy="44290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-304920" y="-59310360"/>
                <a:ext cx="9144000" cy="1187280"/>
                <a:chOff x="-304920" y="-59310360"/>
                <a:chExt cx="9144000" cy="11872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-304920" y="-5931036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-304920" y="-59310360"/>
                  <a:ext cx="9144000" cy="1187280"/>
                  <a:chOff x="-304920" y="-59310360"/>
                  <a:chExt cx="9144000" cy="11872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-304920" y="-5931036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8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9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0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1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2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3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4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5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6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-304920" y="-593103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-304920" y="-58123080"/>
                <a:ext cx="9144000" cy="1187640"/>
                <a:chOff x="-304920" y="-58123080"/>
                <a:chExt cx="9144000" cy="11876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-304920" y="-58123080"/>
                  <a:ext cx="9144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27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28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-304920" y="-58123080"/>
                  <a:ext cx="91440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-304920" y="-56935440"/>
                <a:ext cx="9144000" cy="822240"/>
                <a:chOff x="-304920" y="-56935440"/>
                <a:chExt cx="9144000" cy="822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-304920" y="-56935440"/>
                  <a:ext cx="9144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DISTRICT INFORM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-304920" y="-56935440"/>
                  <a:ext cx="91440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-304920" y="-56113200"/>
                <a:ext cx="2455920" cy="44640"/>
                <a:chOff x="-304920" y="-56113200"/>
                <a:chExt cx="2455920" cy="4464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-304920" y="-56113200"/>
                  <a:ext cx="2455920" cy="44640"/>
                  <a:chOff x="-304920" y="-56113200"/>
                  <a:chExt cx="2455920" cy="446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-304920" y="-56113200"/>
                    <a:ext cx="2455920" cy="4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-304920" y="-56109960"/>
                    <a:ext cx="2455920" cy="15840"/>
                  </a:xfrm>
                  <a:prstGeom prst="rect">
                    <a:avLst/>
                  </a:prstGeom>
                  <a:solidFill>
                    <a:srgbClr val="00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"/>
                <p:cNvSpPr/>
                <p:nvPr/>
              </p:nvSpPr>
              <p:spPr>
                <a:xfrm>
                  <a:off x="-304920" y="-56113200"/>
                  <a:ext cx="2455920" cy="4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-304920" y="-56068560"/>
                <a:ext cx="9144000" cy="1187280"/>
                <a:chOff x="-304920" y="-56068560"/>
                <a:chExt cx="9144000" cy="11872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-304920" y="-5606856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533"/>
                      </a:solidFill>
                      <a:latin typeface="Times New Roman"/>
                    </a:rPr>
                    <a:t>roll-over a district on the map for a list of its counties, its address, and its contact information. Click on a district to visit its Internet Homepage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-304920" y="-5606856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-312840" y="-59318640"/>
              <a:ext cx="9159840" cy="4444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29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-312840" y="-54881640"/>
            <a:ext cx="9159840" cy="10429920"/>
            <a:chOff x="-312840" y="-54881640"/>
            <a:chExt cx="9159840" cy="10429920"/>
          </a:xfrm>
        </p:grpSpPr>
        <p:grpSp>
          <p:nvGrpSpPr>
            <p:cNvPr id="237" name=""/>
            <p:cNvGrpSpPr/>
            <p:nvPr/>
          </p:nvGrpSpPr>
          <p:grpSpPr>
            <a:xfrm>
              <a:off x="-304920" y="-54873720"/>
              <a:ext cx="9144000" cy="10414080"/>
              <a:chOff x="-304920" y="-54873720"/>
              <a:chExt cx="9144000" cy="1041408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-304920" y="-54873720"/>
                <a:ext cx="9144000" cy="1187640"/>
                <a:chOff x="-304920" y="-54873720"/>
                <a:chExt cx="9144000" cy="11876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-304920" y="-54873720"/>
                  <a:ext cx="9144000" cy="11876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-304920" y="-54873720"/>
                  <a:ext cx="9144000" cy="1187640"/>
                  <a:chOff x="-304920" y="-54873720"/>
                  <a:chExt cx="9144000" cy="11876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-304920" y="-54873720"/>
                    <a:ext cx="9144000" cy="118764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0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1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2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3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4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5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6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7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8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9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0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1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-304920" y="-5487372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3" name=""/>
              <p:cNvGrpSpPr/>
              <p:nvPr/>
            </p:nvGrpSpPr>
            <p:grpSpPr>
              <a:xfrm>
                <a:off x="-304920" y="-53686080"/>
                <a:ext cx="9144000" cy="1187280"/>
                <a:chOff x="-304920" y="-53686080"/>
                <a:chExt cx="9144000" cy="11872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-304920" y="-5368608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42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43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-304920" y="-5368608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-304920" y="-52498800"/>
                <a:ext cx="9144000" cy="822240"/>
                <a:chOff x="-304920" y="-52498800"/>
                <a:chExt cx="9144000" cy="822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-304920" y="-5249880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-304920" y="-52498800"/>
                  <a:ext cx="9144000" cy="822240"/>
                  <a:chOff x="-304920" y="-52498800"/>
                  <a:chExt cx="9144000" cy="8222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-304920" y="-5249880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-304920" y="-524988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1" name=""/>
              <p:cNvGrpSpPr/>
              <p:nvPr/>
            </p:nvGrpSpPr>
            <p:grpSpPr>
              <a:xfrm>
                <a:off x="-304920" y="-51676560"/>
                <a:ext cx="9144000" cy="822240"/>
                <a:chOff x="-304920" y="-51676560"/>
                <a:chExt cx="9144000" cy="8222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-304920" y="-516765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" name=""/>
                <p:cNvGrpSpPr/>
                <p:nvPr/>
              </p:nvGrpSpPr>
              <p:grpSpPr>
                <a:xfrm>
                  <a:off x="-304920" y="-51676560"/>
                  <a:ext cx="9144000" cy="822240"/>
                  <a:chOff x="-304920" y="-51676560"/>
                  <a:chExt cx="9144000" cy="8222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-304920" y="-516765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-304920" y="-516765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" name=""/>
              <p:cNvGrpSpPr/>
              <p:nvPr/>
            </p:nvGrpSpPr>
            <p:grpSpPr>
              <a:xfrm>
                <a:off x="-304920" y="-50854320"/>
                <a:ext cx="9144000" cy="1187640"/>
                <a:chOff x="-304920" y="-50854320"/>
                <a:chExt cx="9144000" cy="11876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-304920" y="-50854320"/>
                  <a:ext cx="9144000" cy="118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-304920" y="-50854320"/>
                  <a:ext cx="9144000" cy="1187640"/>
                  <a:chOff x="-304920" y="-50854320"/>
                  <a:chExt cx="9144000" cy="11876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-304920" y="-50854320"/>
                    <a:ext cx="9144000" cy="118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llen, Defiance, Hancock, Hardin, Paulding, Putnam, Van Wert and Wyandot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-304920" y="-5085432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" name=""/>
              <p:cNvGrpSpPr/>
              <p:nvPr/>
            </p:nvGrpSpPr>
            <p:grpSpPr>
              <a:xfrm>
                <a:off x="-304920" y="-49666680"/>
                <a:ext cx="9144000" cy="822240"/>
                <a:chOff x="-304920" y="-49666680"/>
                <a:chExt cx="9144000" cy="822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-304920" y="-496666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-304920" y="-49666680"/>
                  <a:ext cx="9144000" cy="822240"/>
                  <a:chOff x="-304920" y="-49666680"/>
                  <a:chExt cx="9144000" cy="8222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-304920" y="-496666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-304920" y="-496666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-304920" y="-48844440"/>
                <a:ext cx="9144000" cy="1917720"/>
                <a:chOff x="-304920" y="-48844440"/>
                <a:chExt cx="9144000" cy="19177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-304920" y="-4884444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885 N. McCullough St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Lima, Ohio 4580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419-222-9055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419-222-043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-304920" y="-4884444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-304920" y="-46926720"/>
                <a:ext cx="9144000" cy="822240"/>
                <a:chOff x="-304920" y="-46926720"/>
                <a:chExt cx="9144000" cy="8222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-304920" y="-4692672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-304920" y="-46926720"/>
                  <a:ext cx="9144000" cy="822240"/>
                  <a:chOff x="-304920" y="-46926720"/>
                  <a:chExt cx="9144000" cy="8222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-304920" y="-4692672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-304920" y="-469267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-304920" y="-46104480"/>
                <a:ext cx="9144000" cy="822600"/>
                <a:chOff x="-304920" y="-46104480"/>
                <a:chExt cx="9144000" cy="8226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-304920" y="-46104480"/>
                  <a:ext cx="9144000" cy="82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-304920" y="-46104480"/>
                  <a:ext cx="9144000" cy="822600"/>
                  <a:chOff x="-304920" y="-46104480"/>
                  <a:chExt cx="9144000" cy="8226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-304920" y="-46104480"/>
                    <a:ext cx="9144000" cy="82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4"/>
                      </a:rPr>
                      <a:t>Rhonda Pees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419-222-9055 ext. 26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-304920" y="-4610448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" name=""/>
              <p:cNvGrpSpPr/>
              <p:nvPr/>
            </p:nvGrpSpPr>
            <p:grpSpPr>
              <a:xfrm>
                <a:off x="-304920" y="-45281880"/>
                <a:ext cx="9144000" cy="822240"/>
                <a:chOff x="-304920" y="-45281880"/>
                <a:chExt cx="9144000" cy="822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-304920" y="-452818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-304920" y="-45281880"/>
                  <a:ext cx="9144000" cy="822240"/>
                  <a:chOff x="-304920" y="-45281880"/>
                  <a:chExt cx="9144000" cy="8222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-304920" y="-452818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1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-304920" y="-452818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4" name=""/>
            <p:cNvSpPr/>
            <p:nvPr/>
          </p:nvSpPr>
          <p:spPr>
            <a:xfrm>
              <a:off x="-312840" y="-5488164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45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-312840" y="-44459640"/>
            <a:ext cx="9159840" cy="10429920"/>
            <a:chOff x="-312840" y="-44459640"/>
            <a:chExt cx="9159840" cy="10429920"/>
          </a:xfrm>
        </p:grpSpPr>
        <p:grpSp>
          <p:nvGrpSpPr>
            <p:cNvPr id="287" name=""/>
            <p:cNvGrpSpPr/>
            <p:nvPr/>
          </p:nvGrpSpPr>
          <p:grpSpPr>
            <a:xfrm>
              <a:off x="-304920" y="-44451720"/>
              <a:ext cx="9144000" cy="10414080"/>
              <a:chOff x="-304920" y="-44451720"/>
              <a:chExt cx="9144000" cy="104140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-304920" y="-44451720"/>
                <a:ext cx="9144000" cy="1187280"/>
                <a:chOff x="-304920" y="-44451720"/>
                <a:chExt cx="9144000" cy="1187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-304920" y="-4445172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-304920" y="-44451720"/>
                  <a:ext cx="9144000" cy="1187280"/>
                  <a:chOff x="-304920" y="-44451720"/>
                  <a:chExt cx="9144000" cy="11872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-304920" y="-4445172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6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7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8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9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0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1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2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3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4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5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6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7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-304920" y="-4445172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-304920" y="-43264440"/>
                <a:ext cx="9144000" cy="1187640"/>
                <a:chOff x="-304920" y="-43264440"/>
                <a:chExt cx="9144000" cy="1187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-304920" y="-43264440"/>
                  <a:ext cx="9144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58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59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-304920" y="-43264440"/>
                  <a:ext cx="91440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-304920" y="-42076800"/>
                <a:ext cx="9144000" cy="822240"/>
                <a:chOff x="-304920" y="-42076800"/>
                <a:chExt cx="9144000" cy="8222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-304920" y="-4207680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-304920" y="-42076800"/>
                  <a:ext cx="9144000" cy="822240"/>
                  <a:chOff x="-304920" y="-42076800"/>
                  <a:chExt cx="9144000" cy="82224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-304920" y="-4207680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-304920" y="-420768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-304920" y="-41254560"/>
                <a:ext cx="9144000" cy="822240"/>
                <a:chOff x="-304920" y="-41254560"/>
                <a:chExt cx="9144000" cy="8222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-304920" y="-412545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-304920" y="-41254560"/>
                  <a:ext cx="9144000" cy="822240"/>
                  <a:chOff x="-304920" y="-41254560"/>
                  <a:chExt cx="9144000" cy="82224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-304920" y="-412545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-304920" y="-412545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-304920" y="-40432320"/>
                <a:ext cx="9144000" cy="1187640"/>
                <a:chOff x="-304920" y="-40432320"/>
                <a:chExt cx="9144000" cy="11876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-304920" y="-40432320"/>
                  <a:ext cx="9144000" cy="118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-304920" y="-40432320"/>
                  <a:ext cx="9144000" cy="1187640"/>
                  <a:chOff x="-304920" y="-40432320"/>
                  <a:chExt cx="9144000" cy="118764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-304920" y="-40432320"/>
                    <a:ext cx="9144000" cy="118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Fulton, Henry, Lucas, Ottawa, Sandusky, Seneca, Williams and Wood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-304920" y="-4043232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-304920" y="-39244680"/>
                <a:ext cx="9144000" cy="822240"/>
                <a:chOff x="-304920" y="-39244680"/>
                <a:chExt cx="9144000" cy="8222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-304920" y="-392446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-304920" y="-39244680"/>
                  <a:ext cx="9144000" cy="822240"/>
                  <a:chOff x="-304920" y="-39244680"/>
                  <a:chExt cx="9144000" cy="8222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-304920" y="-392446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-304920" y="-392446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" name=""/>
              <p:cNvGrpSpPr/>
              <p:nvPr/>
            </p:nvGrpSpPr>
            <p:grpSpPr>
              <a:xfrm>
                <a:off x="-304920" y="-38422440"/>
                <a:ext cx="9144000" cy="1917720"/>
                <a:chOff x="-304920" y="-38422440"/>
                <a:chExt cx="9144000" cy="1917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-304920" y="-3842244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17 East Poe Road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Bowling Green, Ohio 43402-1330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419-353-813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419-353-146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-304920" y="-3842244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-304920" y="-36504720"/>
                <a:ext cx="9144000" cy="822240"/>
                <a:chOff x="-304920" y="-36504720"/>
                <a:chExt cx="9144000" cy="8222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-304920" y="-3650472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-304920" y="-36504720"/>
                  <a:ext cx="9144000" cy="822240"/>
                  <a:chOff x="-304920" y="-36504720"/>
                  <a:chExt cx="9144000" cy="8222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-304920" y="-3650472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-304920" y="-365047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-304920" y="-35682480"/>
                <a:ext cx="9144000" cy="822240"/>
                <a:chOff x="-304920" y="-35682480"/>
                <a:chExt cx="9144000" cy="8222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-304920" y="-3568248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" name=""/>
                <p:cNvGrpSpPr/>
                <p:nvPr/>
              </p:nvGrpSpPr>
              <p:grpSpPr>
                <a:xfrm>
                  <a:off x="-304920" y="-35682480"/>
                  <a:ext cx="9144000" cy="822240"/>
                  <a:chOff x="-304920" y="-35682480"/>
                  <a:chExt cx="9144000" cy="8222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-304920" y="-3568248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0"/>
                      </a:rPr>
                      <a:t>Joseph Rutherford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419-373-447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-304920" y="-356824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9" name=""/>
              <p:cNvGrpSpPr/>
              <p:nvPr/>
            </p:nvGrpSpPr>
            <p:grpSpPr>
              <a:xfrm>
                <a:off x="-304920" y="-34860240"/>
                <a:ext cx="9144000" cy="822600"/>
                <a:chOff x="-304920" y="-34860240"/>
                <a:chExt cx="9144000" cy="822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-304920" y="-3486024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-304920" y="-34860240"/>
                  <a:ext cx="9144000" cy="822600"/>
                  <a:chOff x="-304920" y="-34860240"/>
                  <a:chExt cx="9144000" cy="8226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-304920" y="-3486024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2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-304920" y="-3486024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4" name=""/>
            <p:cNvSpPr/>
            <p:nvPr/>
          </p:nvSpPr>
          <p:spPr>
            <a:xfrm>
              <a:off x="-312840" y="-4445964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61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-312840" y="-34037640"/>
            <a:ext cx="9159840" cy="10429920"/>
            <a:chOff x="-312840" y="-34037640"/>
            <a:chExt cx="9159840" cy="10429920"/>
          </a:xfrm>
        </p:grpSpPr>
        <p:grpSp>
          <p:nvGrpSpPr>
            <p:cNvPr id="337" name=""/>
            <p:cNvGrpSpPr/>
            <p:nvPr/>
          </p:nvGrpSpPr>
          <p:grpSpPr>
            <a:xfrm>
              <a:off x="-304920" y="-34029720"/>
              <a:ext cx="9144000" cy="10413720"/>
              <a:chOff x="-304920" y="-34029720"/>
              <a:chExt cx="9144000" cy="104137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-304920" y="-34029720"/>
                <a:ext cx="9144000" cy="1187280"/>
                <a:chOff x="-304920" y="-34029720"/>
                <a:chExt cx="9144000" cy="11872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-304920" y="-3402972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-304920" y="-34029720"/>
                  <a:ext cx="9144000" cy="1187280"/>
                  <a:chOff x="-304920" y="-34029720"/>
                  <a:chExt cx="9144000" cy="118728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-304920" y="-3402972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2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3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4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5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6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7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8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9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0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1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2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3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-304920" y="-3402972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" name=""/>
              <p:cNvGrpSpPr/>
              <p:nvPr/>
            </p:nvGrpSpPr>
            <p:grpSpPr>
              <a:xfrm>
                <a:off x="-304920" y="-32842440"/>
                <a:ext cx="9144000" cy="1187640"/>
                <a:chOff x="-304920" y="-32842440"/>
                <a:chExt cx="9144000" cy="11876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-304920" y="-32842440"/>
                  <a:ext cx="9144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74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75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-304920" y="-32842440"/>
                  <a:ext cx="91440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-304920" y="-31654800"/>
                <a:ext cx="9144000" cy="822240"/>
                <a:chOff x="-304920" y="-31654800"/>
                <a:chExt cx="9144000" cy="8222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-304920" y="-3165480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-304920" y="-31654800"/>
                  <a:ext cx="9144000" cy="822240"/>
                  <a:chOff x="-304920" y="-31654800"/>
                  <a:chExt cx="9144000" cy="8222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-304920" y="-3165480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-304920" y="-316548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" name=""/>
              <p:cNvGrpSpPr/>
              <p:nvPr/>
            </p:nvGrpSpPr>
            <p:grpSpPr>
              <a:xfrm>
                <a:off x="-304920" y="-30832560"/>
                <a:ext cx="9144000" cy="822240"/>
                <a:chOff x="-304920" y="-30832560"/>
                <a:chExt cx="9144000" cy="822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-304920" y="-308325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-304920" y="-30832560"/>
                  <a:ext cx="9144000" cy="822240"/>
                  <a:chOff x="-304920" y="-30832560"/>
                  <a:chExt cx="9144000" cy="8222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-304920" y="-308325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-304920" y="-308325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" name=""/>
              <p:cNvGrpSpPr/>
              <p:nvPr/>
            </p:nvGrpSpPr>
            <p:grpSpPr>
              <a:xfrm>
                <a:off x="-304920" y="-30010320"/>
                <a:ext cx="9144000" cy="1187640"/>
                <a:chOff x="-304920" y="-30010320"/>
                <a:chExt cx="9144000" cy="11876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-304920" y="-30010320"/>
                  <a:ext cx="9144000" cy="118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-304920" y="-30010320"/>
                  <a:ext cx="9144000" cy="1187640"/>
                  <a:chOff x="-304920" y="-30010320"/>
                  <a:chExt cx="9144000" cy="118764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-304920" y="-30010320"/>
                    <a:ext cx="9144000" cy="118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shland, Crawford, Erie, Huron, Lorain, Medina, Richland and Wayne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-304920" y="-3001032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" name=""/>
              <p:cNvGrpSpPr/>
              <p:nvPr/>
            </p:nvGrpSpPr>
            <p:grpSpPr>
              <a:xfrm>
                <a:off x="-304920" y="-28822680"/>
                <a:ext cx="9144000" cy="822240"/>
                <a:chOff x="-304920" y="-28822680"/>
                <a:chExt cx="9144000" cy="8222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-304920" y="-288226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-304920" y="-28822680"/>
                  <a:ext cx="9144000" cy="822240"/>
                  <a:chOff x="-304920" y="-28822680"/>
                  <a:chExt cx="9144000" cy="82224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-304920" y="-288226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-304920" y="-288226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-304920" y="-28000440"/>
                <a:ext cx="9144000" cy="1917720"/>
                <a:chOff x="-304920" y="-28000440"/>
                <a:chExt cx="9144000" cy="19177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-304920" y="-2800044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906 North Clark St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shland, Ohio 44805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800-276-4188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419-281-087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-304920" y="-2800044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-304920" y="-26082720"/>
                <a:ext cx="9144000" cy="822240"/>
                <a:chOff x="-304920" y="-26082720"/>
                <a:chExt cx="9144000" cy="8222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-304920" y="-2608272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" name=""/>
                <p:cNvGrpSpPr/>
                <p:nvPr/>
              </p:nvGrpSpPr>
              <p:grpSpPr>
                <a:xfrm>
                  <a:off x="-304920" y="-26082720"/>
                  <a:ext cx="9144000" cy="822240"/>
                  <a:chOff x="-304920" y="-26082720"/>
                  <a:chExt cx="9144000" cy="8222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-304920" y="-2608272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-304920" y="-260827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-304920" y="-25260480"/>
                <a:ext cx="9144000" cy="822240"/>
                <a:chOff x="-304920" y="-25260480"/>
                <a:chExt cx="9144000" cy="8222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-304920" y="-2526048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-304920" y="-25260480"/>
                  <a:ext cx="9144000" cy="822240"/>
                  <a:chOff x="-304920" y="-25260480"/>
                  <a:chExt cx="9144000" cy="8222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-304920" y="-2526048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6"/>
                      </a:rPr>
                      <a:t>Brian Stacy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800-276-4188 ext. 10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-304920" y="-252604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-304920" y="-24438240"/>
                <a:ext cx="9144000" cy="822240"/>
                <a:chOff x="-304920" y="-24438240"/>
                <a:chExt cx="9144000" cy="8222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-304920" y="-244382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" name=""/>
                <p:cNvGrpSpPr/>
                <p:nvPr/>
              </p:nvGrpSpPr>
              <p:grpSpPr>
                <a:xfrm>
                  <a:off x="-304920" y="-24438240"/>
                  <a:ext cx="9144000" cy="822240"/>
                  <a:chOff x="-304920" y="-24438240"/>
                  <a:chExt cx="9144000" cy="82224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-304920" y="-244382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3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-304920" y="-244382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84" name=""/>
            <p:cNvSpPr/>
            <p:nvPr/>
          </p:nvSpPr>
          <p:spPr>
            <a:xfrm>
              <a:off x="-312840" y="-3403764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5" name="" descr=""/>
          <p:cNvPicPr/>
          <p:nvPr/>
        </p:nvPicPr>
        <p:blipFill>
          <a:blip r:embed="rId77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-312840" y="-23615640"/>
            <a:ext cx="9159840" cy="10429920"/>
            <a:chOff x="-312840" y="-23615640"/>
            <a:chExt cx="9159840" cy="10429920"/>
          </a:xfrm>
        </p:grpSpPr>
        <p:grpSp>
          <p:nvGrpSpPr>
            <p:cNvPr id="387" name=""/>
            <p:cNvGrpSpPr/>
            <p:nvPr/>
          </p:nvGrpSpPr>
          <p:grpSpPr>
            <a:xfrm>
              <a:off x="-304920" y="-23607360"/>
              <a:ext cx="9144000" cy="10413720"/>
              <a:chOff x="-304920" y="-23607360"/>
              <a:chExt cx="9144000" cy="1041372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-304920" y="-23607360"/>
                <a:ext cx="9144000" cy="1187280"/>
                <a:chOff x="-304920" y="-23607360"/>
                <a:chExt cx="9144000" cy="11872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-304920" y="-2360736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-304920" y="-23607360"/>
                  <a:ext cx="9144000" cy="1187280"/>
                  <a:chOff x="-304920" y="-23607360"/>
                  <a:chExt cx="9144000" cy="11872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-304920" y="-2360736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8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9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0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1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2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3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4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5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6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7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8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9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-304920" y="-236073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" name=""/>
              <p:cNvGrpSpPr/>
              <p:nvPr/>
            </p:nvGrpSpPr>
            <p:grpSpPr>
              <a:xfrm>
                <a:off x="-304920" y="-22420080"/>
                <a:ext cx="9144000" cy="1187280"/>
                <a:chOff x="-304920" y="-22420080"/>
                <a:chExt cx="9144000" cy="11872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-304920" y="-2242008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90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91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-304920" y="-2242008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-304920" y="-21232800"/>
                <a:ext cx="9144000" cy="822600"/>
                <a:chOff x="-304920" y="-21232800"/>
                <a:chExt cx="9144000" cy="8226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-304920" y="-21232800"/>
                  <a:ext cx="9144000" cy="82260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-304920" y="-21232800"/>
                  <a:ext cx="9144000" cy="822600"/>
                  <a:chOff x="-304920" y="-21232800"/>
                  <a:chExt cx="9144000" cy="8226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-304920" y="-21232800"/>
                    <a:ext cx="9144000" cy="82260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-304920" y="-2123280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-304920" y="-20410200"/>
                <a:ext cx="9144000" cy="822240"/>
                <a:chOff x="-304920" y="-20410200"/>
                <a:chExt cx="9144000" cy="8222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-304920" y="-2041020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-304920" y="-20410200"/>
                  <a:ext cx="9144000" cy="822240"/>
                  <a:chOff x="-304920" y="-20410200"/>
                  <a:chExt cx="9144000" cy="82224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-304920" y="-2041020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-304920" y="-204102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-304920" y="-19587960"/>
                <a:ext cx="9144000" cy="1187280"/>
                <a:chOff x="-304920" y="-19587960"/>
                <a:chExt cx="9144000" cy="1187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-304920" y="-19587960"/>
                  <a:ext cx="9144000" cy="118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-304920" y="-19587960"/>
                  <a:ext cx="9144000" cy="1187280"/>
                  <a:chOff x="-304920" y="-19587960"/>
                  <a:chExt cx="9144000" cy="11872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-304920" y="-19587960"/>
                    <a:ext cx="9144000" cy="118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shtabula, Mahoning, Portage, Stark, Summit and Trumbull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-304920" y="-195879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-304920" y="-18400680"/>
                <a:ext cx="9144000" cy="822600"/>
                <a:chOff x="-304920" y="-18400680"/>
                <a:chExt cx="9144000" cy="8226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-304920" y="-1840068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-304920" y="-18400680"/>
                  <a:ext cx="9144000" cy="822600"/>
                  <a:chOff x="-304920" y="-18400680"/>
                  <a:chExt cx="9144000" cy="8226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-304920" y="-1840068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-304920" y="-1840068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-304920" y="-17578080"/>
                <a:ext cx="9144000" cy="1917720"/>
                <a:chOff x="-304920" y="-17578080"/>
                <a:chExt cx="9144000" cy="19177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-304920" y="-1757808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088 S. Arlington Street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kron, Ohio 44306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330-786-3100 or 800-603-1054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330-786-22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-304920" y="-1757808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-304920" y="-15660360"/>
                <a:ext cx="9144000" cy="822240"/>
                <a:chOff x="-304920" y="-15660360"/>
                <a:chExt cx="9144000" cy="822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-304920" y="-156603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-304920" y="-15660360"/>
                  <a:ext cx="9144000" cy="822240"/>
                  <a:chOff x="-304920" y="-15660360"/>
                  <a:chExt cx="9144000" cy="8222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-304920" y="-156603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-304920" y="-156603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4" name=""/>
              <p:cNvGrpSpPr/>
              <p:nvPr/>
            </p:nvGrpSpPr>
            <p:grpSpPr>
              <a:xfrm>
                <a:off x="-304920" y="-14838120"/>
                <a:ext cx="9144000" cy="822240"/>
                <a:chOff x="-304920" y="-14838120"/>
                <a:chExt cx="9144000" cy="8222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-304920" y="-1483812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-304920" y="-14838120"/>
                  <a:ext cx="9144000" cy="822240"/>
                  <a:chOff x="-304920" y="-14838120"/>
                  <a:chExt cx="9144000" cy="8222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-304920" y="-1483812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92"/>
                      </a:rPr>
                      <a:t>Jennifer Richmond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330-786-220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-304920" y="-148381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-304920" y="-14015880"/>
                <a:ext cx="9144000" cy="822240"/>
                <a:chOff x="-304920" y="-14015880"/>
                <a:chExt cx="9144000" cy="8222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-304920" y="-140158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-304920" y="-14015880"/>
                  <a:ext cx="9144000" cy="822240"/>
                  <a:chOff x="-304920" y="-14015880"/>
                  <a:chExt cx="9144000" cy="8222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-304920" y="-140158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4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-304920" y="-140158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4" name=""/>
            <p:cNvSpPr/>
            <p:nvPr/>
          </p:nvSpPr>
          <p:spPr>
            <a:xfrm>
              <a:off x="-312840" y="-2361564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5" name="" descr=""/>
          <p:cNvPicPr/>
          <p:nvPr/>
        </p:nvPicPr>
        <p:blipFill>
          <a:blip r:embed="rId93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94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95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96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97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-312840" y="19167480"/>
            <a:ext cx="9159840" cy="10429560"/>
            <a:chOff x="-312840" y="19167480"/>
            <a:chExt cx="9159840" cy="10429560"/>
          </a:xfrm>
        </p:grpSpPr>
        <p:grpSp>
          <p:nvGrpSpPr>
            <p:cNvPr id="441" name=""/>
            <p:cNvGrpSpPr/>
            <p:nvPr/>
          </p:nvGrpSpPr>
          <p:grpSpPr>
            <a:xfrm>
              <a:off x="-304920" y="19175400"/>
              <a:ext cx="9144000" cy="10413720"/>
              <a:chOff x="-304920" y="19175400"/>
              <a:chExt cx="9144000" cy="1041372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-304920" y="19175400"/>
                <a:ext cx="9144000" cy="1187280"/>
                <a:chOff x="-304920" y="19175400"/>
                <a:chExt cx="9144000" cy="11872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-304920" y="1917540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" name=""/>
                <p:cNvGrpSpPr/>
                <p:nvPr/>
              </p:nvGrpSpPr>
              <p:grpSpPr>
                <a:xfrm>
                  <a:off x="-304920" y="19175400"/>
                  <a:ext cx="9144000" cy="1187280"/>
                  <a:chOff x="-304920" y="19175400"/>
                  <a:chExt cx="9144000" cy="118728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-304920" y="1917540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98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99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0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1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2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3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4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5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6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7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8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9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-304920" y="1917540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-304920" y="20362680"/>
                <a:ext cx="9144000" cy="1187640"/>
                <a:chOff x="-304920" y="20362680"/>
                <a:chExt cx="9144000" cy="11876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-304920" y="20362680"/>
                  <a:ext cx="9144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10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11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-304920" y="20362680"/>
                  <a:ext cx="91440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-304920" y="21550320"/>
                <a:ext cx="9144000" cy="822240"/>
                <a:chOff x="-304920" y="21550320"/>
                <a:chExt cx="9144000" cy="8222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-304920" y="2155032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-304920" y="21550320"/>
                  <a:ext cx="9144000" cy="822240"/>
                  <a:chOff x="-304920" y="21550320"/>
                  <a:chExt cx="9144000" cy="8222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-304920" y="2155032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-304920" y="215503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-304920" y="22372560"/>
                <a:ext cx="9144000" cy="822240"/>
                <a:chOff x="-304920" y="22372560"/>
                <a:chExt cx="9144000" cy="8222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-304920" y="223725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-304920" y="22372560"/>
                  <a:ext cx="9144000" cy="822240"/>
                  <a:chOff x="-304920" y="22372560"/>
                  <a:chExt cx="9144000" cy="8222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-304920" y="223725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-304920" y="223725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-304920" y="23194800"/>
                <a:ext cx="9144000" cy="1187280"/>
                <a:chOff x="-304920" y="23194800"/>
                <a:chExt cx="9144000" cy="11872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-304920" y="23194800"/>
                  <a:ext cx="9144000" cy="118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-304920" y="23194800"/>
                  <a:ext cx="9144000" cy="1187280"/>
                  <a:chOff x="-304920" y="23194800"/>
                  <a:chExt cx="9144000" cy="11872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-304920" y="23194800"/>
                    <a:ext cx="9144000" cy="118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Butler, Clermont, Clinton, Greene, Hamilton, Preble and Warren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-304920" y="2319480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-304920" y="24382080"/>
                <a:ext cx="9144000" cy="822600"/>
                <a:chOff x="-304920" y="24382080"/>
                <a:chExt cx="9144000" cy="8226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-304920" y="2438208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7" name=""/>
                <p:cNvGrpSpPr/>
                <p:nvPr/>
              </p:nvGrpSpPr>
              <p:grpSpPr>
                <a:xfrm>
                  <a:off x="-304920" y="24382080"/>
                  <a:ext cx="9144000" cy="822600"/>
                  <a:chOff x="-304920" y="24382080"/>
                  <a:chExt cx="9144000" cy="8226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-304920" y="2438208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-304920" y="2438208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-304920" y="25204680"/>
                <a:ext cx="9144000" cy="1917720"/>
                <a:chOff x="-304920" y="25204680"/>
                <a:chExt cx="9144000" cy="19177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-304920" y="2520468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505 South SR 74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Lebanon, Ohio 45036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800-831-2142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513-932-765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-304920" y="2520468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-304920" y="27122400"/>
                <a:ext cx="9144000" cy="822240"/>
                <a:chOff x="-304920" y="27122400"/>
                <a:chExt cx="9144000" cy="822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-304920" y="2712240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-304920" y="27122400"/>
                  <a:ext cx="9144000" cy="822240"/>
                  <a:chOff x="-304920" y="27122400"/>
                  <a:chExt cx="9144000" cy="8222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-304920" y="2712240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-304920" y="271224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-304920" y="27944640"/>
                <a:ext cx="9144000" cy="822240"/>
                <a:chOff x="-304920" y="27944640"/>
                <a:chExt cx="9144000" cy="8222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-304920" y="2794464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-304920" y="27944640"/>
                  <a:ext cx="9144000" cy="822240"/>
                  <a:chOff x="-304920" y="27944640"/>
                  <a:chExt cx="9144000" cy="82224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-304920" y="2794464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2"/>
                      </a:rPr>
                      <a:t>Ron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3"/>
                      </a:rPr>
                      <a:t> Mosby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513-933-651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-304920" y="279446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3" name=""/>
              <p:cNvGrpSpPr/>
              <p:nvPr/>
            </p:nvGrpSpPr>
            <p:grpSpPr>
              <a:xfrm>
                <a:off x="-304920" y="28766880"/>
                <a:ext cx="9144000" cy="822240"/>
                <a:chOff x="-304920" y="28766880"/>
                <a:chExt cx="9144000" cy="8222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-304920" y="287668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-304920" y="28766880"/>
                  <a:ext cx="9144000" cy="822240"/>
                  <a:chOff x="-304920" y="28766880"/>
                  <a:chExt cx="9144000" cy="82224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-304920" y="287668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8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-304920" y="287668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8" name=""/>
            <p:cNvSpPr/>
            <p:nvPr/>
          </p:nvSpPr>
          <p:spPr>
            <a:xfrm>
              <a:off x="-312840" y="19167480"/>
              <a:ext cx="9159840" cy="1042956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114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490" name=""/>
          <p:cNvGrpSpPr/>
          <p:nvPr/>
        </p:nvGrpSpPr>
        <p:grpSpPr>
          <a:xfrm>
            <a:off x="-312840" y="29589480"/>
            <a:ext cx="9159840" cy="10429920"/>
            <a:chOff x="-312840" y="29589480"/>
            <a:chExt cx="9159840" cy="10429920"/>
          </a:xfrm>
        </p:grpSpPr>
        <p:grpSp>
          <p:nvGrpSpPr>
            <p:cNvPr id="491" name=""/>
            <p:cNvGrpSpPr/>
            <p:nvPr/>
          </p:nvGrpSpPr>
          <p:grpSpPr>
            <a:xfrm>
              <a:off x="-304920" y="29597400"/>
              <a:ext cx="9144000" cy="10414080"/>
              <a:chOff x="-304920" y="29597400"/>
              <a:chExt cx="9144000" cy="1041408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-304920" y="29597400"/>
                <a:ext cx="9144000" cy="1187640"/>
                <a:chOff x="-304920" y="29597400"/>
                <a:chExt cx="9144000" cy="1187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-304920" y="29597400"/>
                  <a:ext cx="9144000" cy="11876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4" name=""/>
                <p:cNvGrpSpPr/>
                <p:nvPr/>
              </p:nvGrpSpPr>
              <p:grpSpPr>
                <a:xfrm>
                  <a:off x="-304920" y="29597400"/>
                  <a:ext cx="9144000" cy="1187640"/>
                  <a:chOff x="-304920" y="29597400"/>
                  <a:chExt cx="9144000" cy="11876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-304920" y="29597400"/>
                    <a:ext cx="9144000" cy="118764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5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6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7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8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9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0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1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2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3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4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5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6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-304920" y="2959740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7" name=""/>
              <p:cNvGrpSpPr/>
              <p:nvPr/>
            </p:nvGrpSpPr>
            <p:grpSpPr>
              <a:xfrm>
                <a:off x="-304920" y="30785040"/>
                <a:ext cx="9144000" cy="1187280"/>
                <a:chOff x="-304920" y="30785040"/>
                <a:chExt cx="9144000" cy="118728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-304920" y="3078504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27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28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-304920" y="3078504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-304920" y="31972320"/>
                <a:ext cx="9144000" cy="822600"/>
                <a:chOff x="-304920" y="31972320"/>
                <a:chExt cx="9144000" cy="8226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-304920" y="31972320"/>
                  <a:ext cx="9144000" cy="82260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-304920" y="31972320"/>
                  <a:ext cx="9144000" cy="822600"/>
                  <a:chOff x="-304920" y="31972320"/>
                  <a:chExt cx="9144000" cy="8226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-304920" y="31972320"/>
                    <a:ext cx="9144000" cy="82260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-304920" y="3197232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5" name=""/>
              <p:cNvGrpSpPr/>
              <p:nvPr/>
            </p:nvGrpSpPr>
            <p:grpSpPr>
              <a:xfrm>
                <a:off x="-304920" y="32794920"/>
                <a:ext cx="9144000" cy="822240"/>
                <a:chOff x="-304920" y="32794920"/>
                <a:chExt cx="9144000" cy="8222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-304920" y="3279492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-304920" y="32794920"/>
                  <a:ext cx="9144000" cy="822240"/>
                  <a:chOff x="-304920" y="32794920"/>
                  <a:chExt cx="9144000" cy="82224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-304920" y="3279492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-304920" y="327949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0" name=""/>
              <p:cNvGrpSpPr/>
              <p:nvPr/>
            </p:nvGrpSpPr>
            <p:grpSpPr>
              <a:xfrm>
                <a:off x="-304920" y="33617160"/>
                <a:ext cx="9144000" cy="1187280"/>
                <a:chOff x="-304920" y="33617160"/>
                <a:chExt cx="9144000" cy="118728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-304920" y="33617160"/>
                  <a:ext cx="9144000" cy="118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-304920" y="33617160"/>
                  <a:ext cx="9144000" cy="1187280"/>
                  <a:chOff x="-304920" y="33617160"/>
                  <a:chExt cx="9144000" cy="118728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-304920" y="33617160"/>
                    <a:ext cx="9144000" cy="118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ams, Brown, Highland, Jackson, Lawrence, Pike, Ross and Scioto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-304920" y="336171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5" name=""/>
              <p:cNvGrpSpPr/>
              <p:nvPr/>
            </p:nvGrpSpPr>
            <p:grpSpPr>
              <a:xfrm>
                <a:off x="-304920" y="34804440"/>
                <a:ext cx="9144000" cy="822600"/>
                <a:chOff x="-304920" y="34804440"/>
                <a:chExt cx="9144000" cy="8226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-304920" y="3480444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-304920" y="34804440"/>
                  <a:ext cx="9144000" cy="822600"/>
                  <a:chOff x="-304920" y="34804440"/>
                  <a:chExt cx="9144000" cy="8226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-304920" y="3480444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-304920" y="3480444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-304920" y="35627040"/>
                <a:ext cx="9144000" cy="1917360"/>
                <a:chOff x="-304920" y="35627040"/>
                <a:chExt cx="9144000" cy="19173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-304920" y="35627040"/>
                  <a:ext cx="9144000" cy="19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650 Eastern Ave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 Chillicothe, Ohio 4560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740-773-269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 Fax: 740-775-488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-304920" y="35627040"/>
                  <a:ext cx="9144000" cy="191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-304920" y="37544400"/>
                <a:ext cx="9144000" cy="822600"/>
                <a:chOff x="-304920" y="37544400"/>
                <a:chExt cx="9144000" cy="8226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-304920" y="3754440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-304920" y="37544400"/>
                  <a:ext cx="9144000" cy="822600"/>
                  <a:chOff x="-304920" y="37544400"/>
                  <a:chExt cx="9144000" cy="82260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-304920" y="3754440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-304920" y="3754440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-304920" y="38367000"/>
                <a:ext cx="9144000" cy="822240"/>
                <a:chOff x="-304920" y="38367000"/>
                <a:chExt cx="9144000" cy="8222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-304920" y="3836700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0" name=""/>
                <p:cNvGrpSpPr/>
                <p:nvPr/>
              </p:nvGrpSpPr>
              <p:grpSpPr>
                <a:xfrm>
                  <a:off x="-304920" y="38367000"/>
                  <a:ext cx="9144000" cy="822240"/>
                  <a:chOff x="-304920" y="38367000"/>
                  <a:chExt cx="9144000" cy="8222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-304920" y="3836700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9"/>
                      </a:rPr>
                      <a:t>Kathleen Fuller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740-774-883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-304920" y="383670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-304920" y="39189240"/>
                <a:ext cx="9144000" cy="822240"/>
                <a:chOff x="-304920" y="39189240"/>
                <a:chExt cx="9144000" cy="8222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-304920" y="391892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5" name=""/>
                <p:cNvGrpSpPr/>
                <p:nvPr/>
              </p:nvGrpSpPr>
              <p:grpSpPr>
                <a:xfrm>
                  <a:off x="-304920" y="39189240"/>
                  <a:ext cx="9144000" cy="822240"/>
                  <a:chOff x="-304920" y="39189240"/>
                  <a:chExt cx="9144000" cy="82224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-304920" y="391892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9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-304920" y="391892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38" name=""/>
            <p:cNvSpPr/>
            <p:nvPr/>
          </p:nvSpPr>
          <p:spPr>
            <a:xfrm>
              <a:off x="-312840" y="2958948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9" name="" descr=""/>
          <p:cNvPicPr/>
          <p:nvPr/>
        </p:nvPicPr>
        <p:blipFill>
          <a:blip r:embed="rId130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540" name=""/>
          <p:cNvGrpSpPr/>
          <p:nvPr/>
        </p:nvGrpSpPr>
        <p:grpSpPr>
          <a:xfrm>
            <a:off x="-312840" y="40011480"/>
            <a:ext cx="9159840" cy="10429920"/>
            <a:chOff x="-312840" y="40011480"/>
            <a:chExt cx="9159840" cy="10429920"/>
          </a:xfrm>
        </p:grpSpPr>
        <p:grpSp>
          <p:nvGrpSpPr>
            <p:cNvPr id="541" name=""/>
            <p:cNvGrpSpPr/>
            <p:nvPr/>
          </p:nvGrpSpPr>
          <p:grpSpPr>
            <a:xfrm>
              <a:off x="-304920" y="40019400"/>
              <a:ext cx="9144000" cy="10414080"/>
              <a:chOff x="-304920" y="40019400"/>
              <a:chExt cx="9144000" cy="104140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-304920" y="40019400"/>
                <a:ext cx="9144000" cy="1187640"/>
                <a:chOff x="-304920" y="40019400"/>
                <a:chExt cx="9144000" cy="11876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-304920" y="40019400"/>
                  <a:ext cx="9144000" cy="11876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-304920" y="40019400"/>
                  <a:ext cx="9144000" cy="1187640"/>
                  <a:chOff x="-304920" y="40019400"/>
                  <a:chExt cx="9144000" cy="11876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-304920" y="40019400"/>
                    <a:ext cx="9144000" cy="118764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1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2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3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4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5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6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7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8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9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0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1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2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-304920" y="4001940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7" name=""/>
              <p:cNvGrpSpPr/>
              <p:nvPr/>
            </p:nvGrpSpPr>
            <p:grpSpPr>
              <a:xfrm>
                <a:off x="-304920" y="41207040"/>
                <a:ext cx="9144000" cy="1187280"/>
                <a:chOff x="-304920" y="41207040"/>
                <a:chExt cx="9144000" cy="11872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-304920" y="4120704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43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44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-304920" y="4120704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-304920" y="42394320"/>
                <a:ext cx="9144000" cy="822240"/>
                <a:chOff x="-304920" y="42394320"/>
                <a:chExt cx="9144000" cy="8222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-304920" y="4239432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-304920" y="42394320"/>
                  <a:ext cx="9144000" cy="822240"/>
                  <a:chOff x="-304920" y="42394320"/>
                  <a:chExt cx="9144000" cy="8222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-304920" y="4239432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1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-304920" y="423943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-304920" y="43216560"/>
                <a:ext cx="9144000" cy="822600"/>
                <a:chOff x="-304920" y="43216560"/>
                <a:chExt cx="9144000" cy="8226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-304920" y="4321656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"/>
                <p:cNvGrpSpPr/>
                <p:nvPr/>
              </p:nvGrpSpPr>
              <p:grpSpPr>
                <a:xfrm>
                  <a:off x="-304920" y="43216560"/>
                  <a:ext cx="9144000" cy="822600"/>
                  <a:chOff x="-304920" y="43216560"/>
                  <a:chExt cx="9144000" cy="82260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-304920" y="4321656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-304920" y="4321656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0" name=""/>
              <p:cNvGrpSpPr/>
              <p:nvPr/>
            </p:nvGrpSpPr>
            <p:grpSpPr>
              <a:xfrm>
                <a:off x="-304920" y="44039160"/>
                <a:ext cx="9144000" cy="1187280"/>
                <a:chOff x="-304920" y="44039160"/>
                <a:chExt cx="9144000" cy="11872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-304920" y="44039160"/>
                  <a:ext cx="9144000" cy="118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2" name=""/>
                <p:cNvGrpSpPr/>
                <p:nvPr/>
              </p:nvGrpSpPr>
              <p:grpSpPr>
                <a:xfrm>
                  <a:off x="-304920" y="44039160"/>
                  <a:ext cx="9144000" cy="1187280"/>
                  <a:chOff x="-304920" y="44039160"/>
                  <a:chExt cx="9144000" cy="118728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-304920" y="44039160"/>
                    <a:ext cx="9144000" cy="118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thens, Gallia, Hocking, Meigs, Monroe, Morgan, Noble, Vinton and Washington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-304920" y="440391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-304920" y="45226440"/>
                <a:ext cx="9144000" cy="822240"/>
                <a:chOff x="-304920" y="45226440"/>
                <a:chExt cx="9144000" cy="8222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-304920" y="452264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7" name=""/>
                <p:cNvGrpSpPr/>
                <p:nvPr/>
              </p:nvGrpSpPr>
              <p:grpSpPr>
                <a:xfrm>
                  <a:off x="-304920" y="45226440"/>
                  <a:ext cx="9144000" cy="822240"/>
                  <a:chOff x="-304920" y="45226440"/>
                  <a:chExt cx="9144000" cy="82224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-304920" y="452264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-304920" y="452264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0" name=""/>
              <p:cNvGrpSpPr/>
              <p:nvPr/>
            </p:nvGrpSpPr>
            <p:grpSpPr>
              <a:xfrm>
                <a:off x="-304920" y="46048680"/>
                <a:ext cx="9144000" cy="1917720"/>
                <a:chOff x="-304920" y="46048680"/>
                <a:chExt cx="9144000" cy="1917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-304920" y="4604868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38 Muskingum Dr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Marietta, Ohio 45750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800-845-0226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740-373-73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-304920" y="4604868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-304920" y="47966400"/>
                <a:ext cx="9144000" cy="822600"/>
                <a:chOff x="-304920" y="47966400"/>
                <a:chExt cx="9144000" cy="8226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-304920" y="4796640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-304920" y="47966400"/>
                  <a:ext cx="9144000" cy="822600"/>
                  <a:chOff x="-304920" y="47966400"/>
                  <a:chExt cx="9144000" cy="822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-304920" y="4796640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-304920" y="4796640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8" name=""/>
              <p:cNvGrpSpPr/>
              <p:nvPr/>
            </p:nvGrpSpPr>
            <p:grpSpPr>
              <a:xfrm>
                <a:off x="-304920" y="48789000"/>
                <a:ext cx="9144000" cy="822240"/>
                <a:chOff x="-304920" y="48789000"/>
                <a:chExt cx="9144000" cy="82224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-304920" y="4878900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0" name=""/>
                <p:cNvGrpSpPr/>
                <p:nvPr/>
              </p:nvGrpSpPr>
              <p:grpSpPr>
                <a:xfrm>
                  <a:off x="-304920" y="48789000"/>
                  <a:ext cx="9144000" cy="822240"/>
                  <a:chOff x="-304920" y="48789000"/>
                  <a:chExt cx="9144000" cy="82224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-304920" y="4878900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5"/>
                      </a:rPr>
                      <a:t>Stephanie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6"/>
                      </a:rPr>
                      <a:t> Filson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800-845-0226 ext. 20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-304920" y="487890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3" name=""/>
              <p:cNvGrpSpPr/>
              <p:nvPr/>
            </p:nvGrpSpPr>
            <p:grpSpPr>
              <a:xfrm>
                <a:off x="-304920" y="49611240"/>
                <a:ext cx="9144000" cy="822240"/>
                <a:chOff x="-304920" y="49611240"/>
                <a:chExt cx="9144000" cy="8222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-304920" y="496112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5" name=""/>
                <p:cNvGrpSpPr/>
                <p:nvPr/>
              </p:nvGrpSpPr>
              <p:grpSpPr>
                <a:xfrm>
                  <a:off x="-304920" y="49611240"/>
                  <a:ext cx="9144000" cy="822240"/>
                  <a:chOff x="-304920" y="49611240"/>
                  <a:chExt cx="9144000" cy="82224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-304920" y="496112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10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-304920" y="496112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88" name=""/>
            <p:cNvSpPr/>
            <p:nvPr/>
          </p:nvSpPr>
          <p:spPr>
            <a:xfrm>
              <a:off x="-312840" y="4001148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" descr=""/>
          <p:cNvPicPr/>
          <p:nvPr/>
        </p:nvPicPr>
        <p:blipFill>
          <a:blip r:embed="rId147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-312840" y="50433120"/>
            <a:ext cx="9159840" cy="10429920"/>
            <a:chOff x="-312840" y="50433120"/>
            <a:chExt cx="9159840" cy="10429920"/>
          </a:xfrm>
        </p:grpSpPr>
        <p:grpSp>
          <p:nvGrpSpPr>
            <p:cNvPr id="591" name=""/>
            <p:cNvGrpSpPr/>
            <p:nvPr/>
          </p:nvGrpSpPr>
          <p:grpSpPr>
            <a:xfrm>
              <a:off x="-304920" y="50441040"/>
              <a:ext cx="9144000" cy="10414080"/>
              <a:chOff x="-304920" y="50441040"/>
              <a:chExt cx="9144000" cy="1041408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-304920" y="50441040"/>
                <a:ext cx="9144000" cy="1187640"/>
                <a:chOff x="-304920" y="50441040"/>
                <a:chExt cx="9144000" cy="11876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-304920" y="50441040"/>
                  <a:ext cx="9144000" cy="11876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-304920" y="50441040"/>
                  <a:ext cx="9144000" cy="1187640"/>
                  <a:chOff x="-304920" y="50441040"/>
                  <a:chExt cx="9144000" cy="118764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-304920" y="50441040"/>
                    <a:ext cx="9144000" cy="118764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8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9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0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1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2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3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4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5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6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7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8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9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-304920" y="5044104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-304920" y="51628680"/>
                <a:ext cx="9144000" cy="1187280"/>
                <a:chOff x="-304920" y="51628680"/>
                <a:chExt cx="9144000" cy="11872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-304920" y="5162868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60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61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-304920" y="5162868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-304920" y="52815960"/>
                <a:ext cx="9144000" cy="822240"/>
                <a:chOff x="-304920" y="52815960"/>
                <a:chExt cx="9144000" cy="8222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-304920" y="5281596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-304920" y="52815960"/>
                  <a:ext cx="9144000" cy="822240"/>
                  <a:chOff x="-304920" y="52815960"/>
                  <a:chExt cx="9144000" cy="8222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-304920" y="5281596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1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-304920" y="528159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5" name=""/>
              <p:cNvGrpSpPr/>
              <p:nvPr/>
            </p:nvGrpSpPr>
            <p:grpSpPr>
              <a:xfrm>
                <a:off x="-304920" y="53638200"/>
                <a:ext cx="9144000" cy="822240"/>
                <a:chOff x="-304920" y="53638200"/>
                <a:chExt cx="9144000" cy="82224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-304920" y="5363820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-304920" y="53638200"/>
                  <a:ext cx="9144000" cy="822240"/>
                  <a:chOff x="-304920" y="53638200"/>
                  <a:chExt cx="9144000" cy="82224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-304920" y="5363820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-304920" y="536382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0" name=""/>
              <p:cNvGrpSpPr/>
              <p:nvPr/>
            </p:nvGrpSpPr>
            <p:grpSpPr>
              <a:xfrm>
                <a:off x="-304920" y="54460440"/>
                <a:ext cx="9144000" cy="1187640"/>
                <a:chOff x="-304920" y="54460440"/>
                <a:chExt cx="9144000" cy="11876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-304920" y="54460440"/>
                  <a:ext cx="9144000" cy="118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2" name=""/>
                <p:cNvGrpSpPr/>
                <p:nvPr/>
              </p:nvGrpSpPr>
              <p:grpSpPr>
                <a:xfrm>
                  <a:off x="-304920" y="54460440"/>
                  <a:ext cx="9144000" cy="1187640"/>
                  <a:chOff x="-304920" y="54460440"/>
                  <a:chExt cx="9144000" cy="118764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-304920" y="54460440"/>
                    <a:ext cx="9144000" cy="118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Belmont, Carroll, Columbiana, Harrison, Holmes, Jefferson and Tuscarawas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-304920" y="5446044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5" name=""/>
              <p:cNvGrpSpPr/>
              <p:nvPr/>
            </p:nvGrpSpPr>
            <p:grpSpPr>
              <a:xfrm>
                <a:off x="-304920" y="55648080"/>
                <a:ext cx="9144000" cy="822240"/>
                <a:chOff x="-304920" y="55648080"/>
                <a:chExt cx="9144000" cy="8222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-304920" y="556480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-304920" y="55648080"/>
                  <a:ext cx="9144000" cy="822240"/>
                  <a:chOff x="-304920" y="55648080"/>
                  <a:chExt cx="9144000" cy="8222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-304920" y="556480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-304920" y="556480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-304920" y="56470320"/>
                <a:ext cx="9144000" cy="1917720"/>
                <a:chOff x="-304920" y="56470320"/>
                <a:chExt cx="9144000" cy="19177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-304920" y="5647032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201 Reiser Ave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New Philadelphia, Ohio 44663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330-339-6633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330-308-394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-304920" y="5647032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-304920" y="58388040"/>
                <a:ext cx="9144000" cy="822240"/>
                <a:chOff x="-304920" y="58388040"/>
                <a:chExt cx="9144000" cy="822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-304920" y="583880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304920" y="58388040"/>
                  <a:ext cx="9144000" cy="822240"/>
                  <a:chOff x="-304920" y="58388040"/>
                  <a:chExt cx="9144000" cy="82224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-304920" y="583880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-304920" y="583880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-304920" y="59210280"/>
                <a:ext cx="9144000" cy="822600"/>
                <a:chOff x="-304920" y="59210280"/>
                <a:chExt cx="9144000" cy="82260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-304920" y="59210280"/>
                  <a:ext cx="9144000" cy="82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0" name=""/>
                <p:cNvGrpSpPr/>
                <p:nvPr/>
              </p:nvGrpSpPr>
              <p:grpSpPr>
                <a:xfrm>
                  <a:off x="-304920" y="59210280"/>
                  <a:ext cx="9144000" cy="822600"/>
                  <a:chOff x="-304920" y="59210280"/>
                  <a:chExt cx="9144000" cy="82260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-304920" y="59210280"/>
                    <a:ext cx="9144000" cy="82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2"/>
                      </a:rPr>
                      <a:t>Becky McCarty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330-339-6633 ext. 394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-304920" y="5921028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-304920" y="60032880"/>
                <a:ext cx="9144000" cy="822240"/>
                <a:chOff x="-304920" y="60032880"/>
                <a:chExt cx="9144000" cy="8222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-304920" y="600328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-304920" y="60032880"/>
                  <a:ext cx="9144000" cy="822240"/>
                  <a:chOff x="-304920" y="60032880"/>
                  <a:chExt cx="9144000" cy="82224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-304920" y="600328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11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-304920" y="600328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38" name=""/>
            <p:cNvSpPr/>
            <p:nvPr/>
          </p:nvSpPr>
          <p:spPr>
            <a:xfrm>
              <a:off x="-312840" y="5043312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" descr=""/>
          <p:cNvPicPr/>
          <p:nvPr/>
        </p:nvPicPr>
        <p:blipFill>
          <a:blip r:embed="rId163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640" name=""/>
          <p:cNvGrpSpPr/>
          <p:nvPr/>
        </p:nvGrpSpPr>
        <p:grpSpPr>
          <a:xfrm>
            <a:off x="-312840" y="60855120"/>
            <a:ext cx="8459640" cy="10064520"/>
            <a:chOff x="-312840" y="60855120"/>
            <a:chExt cx="8459640" cy="10064520"/>
          </a:xfrm>
        </p:grpSpPr>
        <p:grpSp>
          <p:nvGrpSpPr>
            <p:cNvPr id="641" name=""/>
            <p:cNvGrpSpPr/>
            <p:nvPr/>
          </p:nvGrpSpPr>
          <p:grpSpPr>
            <a:xfrm>
              <a:off x="-304560" y="60863040"/>
              <a:ext cx="8443800" cy="10048680"/>
              <a:chOff x="-304560" y="60863040"/>
              <a:chExt cx="8443800" cy="1004868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-304560" y="60863040"/>
                <a:ext cx="8443800" cy="1187280"/>
                <a:chOff x="-304560" y="60863040"/>
                <a:chExt cx="8443800" cy="118728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-304560" y="60863040"/>
                  <a:ext cx="84438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-304560" y="60863040"/>
                  <a:ext cx="8443800" cy="1187280"/>
                  <a:chOff x="-304560" y="60863040"/>
                  <a:chExt cx="8443800" cy="11872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-304560" y="60863040"/>
                    <a:ext cx="84438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4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5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6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7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8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9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0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1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2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3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4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5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-304560" y="60863040"/>
                    <a:ext cx="84438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-304560" y="62050320"/>
                <a:ext cx="8443800" cy="1187640"/>
                <a:chOff x="-304560" y="62050320"/>
                <a:chExt cx="8443800" cy="11876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-304560" y="62050320"/>
                  <a:ext cx="84438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76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77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-304560" y="62050320"/>
                  <a:ext cx="84438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-304560" y="63237960"/>
                <a:ext cx="8443800" cy="822240"/>
                <a:chOff x="-304560" y="63237960"/>
                <a:chExt cx="8443800" cy="82224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-304560" y="63237960"/>
                  <a:ext cx="84438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2" name=""/>
                <p:cNvGrpSpPr/>
                <p:nvPr/>
              </p:nvGrpSpPr>
              <p:grpSpPr>
                <a:xfrm>
                  <a:off x="-304560" y="63237960"/>
                  <a:ext cx="8443800" cy="822240"/>
                  <a:chOff x="-304560" y="63237960"/>
                  <a:chExt cx="8443800" cy="8222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-304560" y="63237960"/>
                    <a:ext cx="84438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-304560" y="6323796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-304560" y="64060200"/>
                <a:ext cx="8443800" cy="822240"/>
                <a:chOff x="-304560" y="64060200"/>
                <a:chExt cx="8443800" cy="822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-304560" y="64060200"/>
                  <a:ext cx="84438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-304560" y="64060200"/>
                  <a:ext cx="8443800" cy="822240"/>
                  <a:chOff x="-304560" y="64060200"/>
                  <a:chExt cx="8443800" cy="82224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-304560" y="64060200"/>
                    <a:ext cx="84438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-304560" y="6406020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-304560" y="64882440"/>
                <a:ext cx="8443800" cy="822600"/>
                <a:chOff x="-304560" y="64882440"/>
                <a:chExt cx="8443800" cy="8226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-304560" y="64882440"/>
                  <a:ext cx="8443800" cy="82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-304560" y="64882440"/>
                  <a:ext cx="8443800" cy="822600"/>
                  <a:chOff x="-304560" y="64882440"/>
                  <a:chExt cx="8443800" cy="82260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-304560" y="64882440"/>
                    <a:ext cx="8443800" cy="82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uyahoga, Geauga and Lake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-304560" y="64882440"/>
                    <a:ext cx="84438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5" name=""/>
              <p:cNvGrpSpPr/>
              <p:nvPr/>
            </p:nvGrpSpPr>
            <p:grpSpPr>
              <a:xfrm>
                <a:off x="-304560" y="65705040"/>
                <a:ext cx="8443800" cy="822240"/>
                <a:chOff x="-304560" y="65705040"/>
                <a:chExt cx="8443800" cy="82224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-304560" y="65705040"/>
                  <a:ext cx="84438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7" name=""/>
                <p:cNvGrpSpPr/>
                <p:nvPr/>
              </p:nvGrpSpPr>
              <p:grpSpPr>
                <a:xfrm>
                  <a:off x="-304560" y="65705040"/>
                  <a:ext cx="8443800" cy="822240"/>
                  <a:chOff x="-304560" y="65705040"/>
                  <a:chExt cx="8443800" cy="8222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-304560" y="65705040"/>
                    <a:ext cx="84438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-304560" y="6570504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0" name=""/>
              <p:cNvGrpSpPr/>
              <p:nvPr/>
            </p:nvGrpSpPr>
            <p:grpSpPr>
              <a:xfrm>
                <a:off x="-304560" y="66527280"/>
                <a:ext cx="8443800" cy="1917720"/>
                <a:chOff x="-304560" y="66527280"/>
                <a:chExt cx="8443800" cy="19177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-304560" y="66527280"/>
                  <a:ext cx="84438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5500 Transportation Blvd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Garfield Heights, OH 44125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216-581-2100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216-587-17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-304560" y="66527280"/>
                  <a:ext cx="84438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-304560" y="68445000"/>
                <a:ext cx="8443800" cy="822240"/>
                <a:chOff x="-304560" y="68445000"/>
                <a:chExt cx="8443800" cy="822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-304560" y="68445000"/>
                  <a:ext cx="84438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5" name=""/>
                <p:cNvGrpSpPr/>
                <p:nvPr/>
              </p:nvGrpSpPr>
              <p:grpSpPr>
                <a:xfrm>
                  <a:off x="-304560" y="68445000"/>
                  <a:ext cx="8443800" cy="822240"/>
                  <a:chOff x="-304560" y="68445000"/>
                  <a:chExt cx="8443800" cy="82224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-304560" y="68445000"/>
                    <a:ext cx="84438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-304560" y="6844500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8" name=""/>
              <p:cNvGrpSpPr/>
              <p:nvPr/>
            </p:nvGrpSpPr>
            <p:grpSpPr>
              <a:xfrm>
                <a:off x="-304560" y="69267240"/>
                <a:ext cx="8443800" cy="822240"/>
                <a:chOff x="-304560" y="69267240"/>
                <a:chExt cx="8443800" cy="8222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-304560" y="69267240"/>
                  <a:ext cx="84438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0" name=""/>
                <p:cNvGrpSpPr/>
                <p:nvPr/>
              </p:nvGrpSpPr>
              <p:grpSpPr>
                <a:xfrm>
                  <a:off x="-304560" y="69267240"/>
                  <a:ext cx="8443800" cy="822240"/>
                  <a:chOff x="-304560" y="69267240"/>
                  <a:chExt cx="8443800" cy="82224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-304560" y="69267240"/>
                    <a:ext cx="84438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8"/>
                      </a:rPr>
                      <a:t>Lora Hummer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216-584-200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-304560" y="6926724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3" name=""/>
              <p:cNvGrpSpPr/>
              <p:nvPr/>
            </p:nvGrpSpPr>
            <p:grpSpPr>
              <a:xfrm>
                <a:off x="-304560" y="70089480"/>
                <a:ext cx="8443800" cy="822240"/>
                <a:chOff x="-304560" y="70089480"/>
                <a:chExt cx="8443800" cy="8222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-304560" y="70089480"/>
                  <a:ext cx="84438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-304560" y="70089480"/>
                  <a:ext cx="8443800" cy="822240"/>
                  <a:chOff x="-304560" y="70089480"/>
                  <a:chExt cx="8443800" cy="82224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-304560" y="70089480"/>
                    <a:ext cx="84438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12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-304560" y="7008948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88" name=""/>
            <p:cNvSpPr/>
            <p:nvPr/>
          </p:nvSpPr>
          <p:spPr>
            <a:xfrm>
              <a:off x="-312840" y="60855120"/>
              <a:ext cx="8459640" cy="100645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-312840" y="-54417960"/>
            <a:ext cx="9144000" cy="1187280"/>
            <a:chOff x="-312840" y="-54417960"/>
            <a:chExt cx="9144000" cy="1187280"/>
          </a:xfrm>
        </p:grpSpPr>
        <p:sp>
          <p:nvSpPr>
            <p:cNvPr id="690" name=""/>
            <p:cNvSpPr/>
            <p:nvPr/>
          </p:nvSpPr>
          <p:spPr>
            <a:xfrm>
              <a:off x="-312840" y="-54417960"/>
              <a:ext cx="9144000" cy="1187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312840" y="-54417960"/>
              <a:ext cx="9144000" cy="1187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79"/>
                </a:rPr>
                <a:t> ODOT District Directory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|  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80"/>
                </a:rPr>
                <a:t>ODOT Phone Lookup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   |  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81"/>
                </a:rPr>
                <a:t>Directions to ODOT Off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-312840" y="-532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312840" y="-532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-312840" y="-53230320"/>
            <a:ext cx="9771120" cy="3562200"/>
            <a:chOff x="-312840" y="-53230320"/>
            <a:chExt cx="9771120" cy="3562200"/>
          </a:xfrm>
        </p:grpSpPr>
        <p:sp>
          <p:nvSpPr>
            <p:cNvPr id="695" name=""/>
            <p:cNvSpPr/>
            <p:nvPr/>
          </p:nvSpPr>
          <p:spPr>
            <a:xfrm>
              <a:off x="-312840" y="-53230320"/>
              <a:ext cx="9771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312840" y="-52773120"/>
              <a:ext cx="35892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080" y="-52773120"/>
              <a:ext cx="9050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 h e   O h i o   D e p a r t m e n t   o f   T r a n s p o r t a t i o n   ( O D O T 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6120" y="-52773120"/>
              <a:ext cx="35892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-312840" y="-51950880"/>
              <a:ext cx="97711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80 W. BROAD ST., COLUMBUS, OHIO, USA, 43223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82"/>
                </a:rPr>
                <a:t>Bob Taft, Governor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 |  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83"/>
                </a:rPr>
                <a:t>Gordon Proctor, Director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eb site notes |  ODOT phone listing |  feedback |  Ohio front page |  district directory  |  office listing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act the Web Administrat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-312840" y="-4966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GreenTopLeft" descr=""/>
          <p:cNvPicPr/>
          <p:nvPr/>
        </p:nvPicPr>
        <p:blipFill>
          <a:blip r:embed="rId184"/>
          <a:stretch/>
        </p:blipFill>
        <p:spPr>
          <a:xfrm>
            <a:off x="-220680" y="-63466560"/>
            <a:ext cx="125280" cy="296640"/>
          </a:xfrm>
          <a:prstGeom prst="rect">
            <a:avLst/>
          </a:prstGeom>
          <a:ln w="0">
            <a:noFill/>
          </a:ln>
        </p:spPr>
      </p:pic>
      <p:pic>
        <p:nvPicPr>
          <p:cNvPr id="702" name="GreensmZep" descr="">
            <a:hlinkClick r:id="rId185"/>
          </p:cNvPr>
          <p:cNvPicPr/>
          <p:nvPr/>
        </p:nvPicPr>
        <p:blipFill>
          <a:blip r:embed="rId186"/>
          <a:stretch/>
        </p:blipFill>
        <p:spPr>
          <a:xfrm>
            <a:off x="173160" y="-63649080"/>
            <a:ext cx="434880" cy="296640"/>
          </a:xfrm>
          <a:prstGeom prst="rect">
            <a:avLst/>
          </a:prstGeom>
          <a:ln w="0">
            <a:noFill/>
          </a:ln>
        </p:spPr>
      </p:pic>
      <p:pic>
        <p:nvPicPr>
          <p:cNvPr id="703" name="GreensmZep" descr="">
            <a:hlinkClick r:id="rId187"/>
          </p:cNvPr>
          <p:cNvPicPr/>
          <p:nvPr/>
        </p:nvPicPr>
        <p:blipFill>
          <a:blip r:embed="rId188"/>
          <a:stretch/>
        </p:blipFill>
        <p:spPr>
          <a:xfrm>
            <a:off x="8124840" y="-63831960"/>
            <a:ext cx="434880" cy="297000"/>
          </a:xfrm>
          <a:prstGeom prst="rect">
            <a:avLst/>
          </a:prstGeom>
          <a:ln w="0">
            <a:noFill/>
          </a:ln>
        </p:spPr>
      </p:pic>
      <p:pic>
        <p:nvPicPr>
          <p:cNvPr id="704" name="GreenTopRight" descr=""/>
          <p:cNvPicPr/>
          <p:nvPr/>
        </p:nvPicPr>
        <p:blipFill>
          <a:blip r:embed="rId189"/>
          <a:stretch/>
        </p:blipFill>
        <p:spPr>
          <a:xfrm>
            <a:off x="8602560" y="-63284040"/>
            <a:ext cx="125640" cy="296640"/>
          </a:xfrm>
          <a:prstGeom prst="rect">
            <a:avLst/>
          </a:prstGeom>
          <a:ln w="0">
            <a:noFill/>
          </a:ln>
        </p:spPr>
      </p:pic>
      <p:pic>
        <p:nvPicPr>
          <p:cNvPr id="705" name="Line9px" descr=""/>
          <p:cNvPicPr/>
          <p:nvPr/>
        </p:nvPicPr>
        <p:blipFill>
          <a:blip r:embed="rId190"/>
          <a:stretch/>
        </p:blipFill>
        <p:spPr>
          <a:xfrm>
            <a:off x="4334040" y="-624618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706" name="Distmapbanner" descr="Ohio Department of Transportation District Map and Information Page"/>
          <p:cNvPicPr/>
          <p:nvPr/>
        </p:nvPicPr>
        <p:blipFill>
          <a:blip r:embed="rId191"/>
          <a:stretch/>
        </p:blipFill>
        <p:spPr>
          <a:xfrm>
            <a:off x="-125280" y="-61388640"/>
            <a:ext cx="4572000" cy="62856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1301760" y="-59721840"/>
            <a:ext cx="4857840" cy="5097600"/>
            <a:chOff x="1301760" y="-59721840"/>
            <a:chExt cx="4857840" cy="5097600"/>
          </a:xfrm>
        </p:grpSpPr>
        <p:pic>
          <p:nvPicPr>
            <p:cNvPr id="708" name="distmap1" descr=""/>
            <p:cNvPicPr/>
            <p:nvPr/>
          </p:nvPicPr>
          <p:blipFill>
            <a:blip r:embed="rId192"/>
            <a:stretch/>
          </p:blipFill>
          <p:spPr>
            <a:xfrm>
              <a:off x="1301760" y="-59721840"/>
              <a:ext cx="485784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>
              <a:hlinkClick r:id="rId193"/>
            </p:cNvPr>
            <p:cNvSpPr/>
            <p:nvPr/>
          </p:nvSpPr>
          <p:spPr>
            <a:xfrm>
              <a:off x="3666960" y="-56829240"/>
              <a:ext cx="2070360" cy="1496880"/>
            </a:xfrm>
            <a:custGeom>
              <a:avLst/>
              <a:gdLst/>
              <a:ahLst/>
              <a:rect l="l" t="t" r="r" b="b"/>
              <a:pathLst>
                <a:path w="1304" h="943">
                  <a:moveTo>
                    <a:pt x="303" y="1202"/>
                  </a:moveTo>
                  <a:lnTo>
                    <a:pt x="152" y="979"/>
                  </a:lnTo>
                  <a:lnTo>
                    <a:pt x="195" y="957"/>
                  </a:lnTo>
                  <a:lnTo>
                    <a:pt x="195" y="712"/>
                  </a:lnTo>
                  <a:lnTo>
                    <a:pt x="0" y="648"/>
                  </a:lnTo>
                  <a:lnTo>
                    <a:pt x="8" y="360"/>
                  </a:lnTo>
                  <a:lnTo>
                    <a:pt x="231" y="266"/>
                  </a:lnTo>
                  <a:lnTo>
                    <a:pt x="483" y="374"/>
                  </a:lnTo>
                  <a:lnTo>
                    <a:pt x="476" y="172"/>
                  </a:lnTo>
                  <a:lnTo>
                    <a:pt x="670" y="165"/>
                  </a:lnTo>
                  <a:lnTo>
                    <a:pt x="958" y="0"/>
                  </a:lnTo>
                  <a:lnTo>
                    <a:pt x="987" y="93"/>
                  </a:lnTo>
                  <a:lnTo>
                    <a:pt x="1304" y="100"/>
                  </a:lnTo>
                  <a:lnTo>
                    <a:pt x="1253" y="316"/>
                  </a:lnTo>
                  <a:lnTo>
                    <a:pt x="915" y="554"/>
                  </a:lnTo>
                  <a:lnTo>
                    <a:pt x="692" y="676"/>
                  </a:lnTo>
                  <a:lnTo>
                    <a:pt x="670" y="943"/>
                  </a:lnTo>
                  <a:lnTo>
                    <a:pt x="533" y="943"/>
                  </a:lnTo>
                  <a:lnTo>
                    <a:pt x="303" y="120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>
              <a:hlinkClick r:id="rId194"/>
            </p:cNvPr>
            <p:cNvSpPr/>
            <p:nvPr/>
          </p:nvSpPr>
          <p:spPr>
            <a:xfrm>
              <a:off x="2273400" y="-56200680"/>
              <a:ext cx="1886040" cy="1565280"/>
            </a:xfrm>
            <a:custGeom>
              <a:avLst/>
              <a:gdLst/>
              <a:ahLst/>
              <a:rect l="l" t="t" r="r" b="b"/>
              <a:pathLst>
                <a:path w="1188" h="986">
                  <a:moveTo>
                    <a:pt x="0" y="626"/>
                  </a:moveTo>
                  <a:lnTo>
                    <a:pt x="43" y="230"/>
                  </a:lnTo>
                  <a:lnTo>
                    <a:pt x="144" y="230"/>
                  </a:lnTo>
                  <a:lnTo>
                    <a:pt x="338" y="100"/>
                  </a:lnTo>
                  <a:lnTo>
                    <a:pt x="461" y="115"/>
                  </a:lnTo>
                  <a:lnTo>
                    <a:pt x="533" y="0"/>
                  </a:lnTo>
                  <a:lnTo>
                    <a:pt x="864" y="36"/>
                  </a:lnTo>
                  <a:lnTo>
                    <a:pt x="871" y="252"/>
                  </a:lnTo>
                  <a:lnTo>
                    <a:pt x="1087" y="309"/>
                  </a:lnTo>
                  <a:lnTo>
                    <a:pt x="1058" y="554"/>
                  </a:lnTo>
                  <a:lnTo>
                    <a:pt x="1001" y="583"/>
                  </a:lnTo>
                  <a:lnTo>
                    <a:pt x="1181" y="784"/>
                  </a:lnTo>
                  <a:lnTo>
                    <a:pt x="1188" y="914"/>
                  </a:lnTo>
                  <a:lnTo>
                    <a:pt x="986" y="986"/>
                  </a:lnTo>
                  <a:lnTo>
                    <a:pt x="749" y="741"/>
                  </a:lnTo>
                  <a:lnTo>
                    <a:pt x="446" y="806"/>
                  </a:lnTo>
                  <a:lnTo>
                    <a:pt x="158" y="712"/>
                  </a:lnTo>
                  <a:lnTo>
                    <a:pt x="0" y="6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>
              <a:hlinkClick r:id="rId195"/>
            </p:cNvPr>
            <p:cNvSpPr/>
            <p:nvPr/>
          </p:nvSpPr>
          <p:spPr>
            <a:xfrm>
              <a:off x="1416240" y="-56796120"/>
              <a:ext cx="1393560" cy="1577880"/>
            </a:xfrm>
            <a:custGeom>
              <a:avLst/>
              <a:gdLst/>
              <a:ahLst/>
              <a:rect l="l" t="t" r="r" b="b"/>
              <a:pathLst>
                <a:path w="878" h="994">
                  <a:moveTo>
                    <a:pt x="0" y="727"/>
                  </a:moveTo>
                  <a:lnTo>
                    <a:pt x="43" y="0"/>
                  </a:lnTo>
                  <a:lnTo>
                    <a:pt x="252" y="29"/>
                  </a:lnTo>
                  <a:lnTo>
                    <a:pt x="281" y="295"/>
                  </a:lnTo>
                  <a:lnTo>
                    <a:pt x="504" y="310"/>
                  </a:lnTo>
                  <a:lnTo>
                    <a:pt x="547" y="79"/>
                  </a:lnTo>
                  <a:lnTo>
                    <a:pt x="821" y="151"/>
                  </a:lnTo>
                  <a:lnTo>
                    <a:pt x="799" y="317"/>
                  </a:lnTo>
                  <a:lnTo>
                    <a:pt x="864" y="339"/>
                  </a:lnTo>
                  <a:lnTo>
                    <a:pt x="878" y="461"/>
                  </a:lnTo>
                  <a:lnTo>
                    <a:pt x="691" y="605"/>
                  </a:lnTo>
                  <a:lnTo>
                    <a:pt x="605" y="576"/>
                  </a:lnTo>
                  <a:lnTo>
                    <a:pt x="533" y="994"/>
                  </a:lnTo>
                  <a:lnTo>
                    <a:pt x="432" y="987"/>
                  </a:lnTo>
                  <a:lnTo>
                    <a:pt x="274" y="735"/>
                  </a:lnTo>
                  <a:lnTo>
                    <a:pt x="0" y="72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>
              <a:hlinkClick r:id="rId196"/>
            </p:cNvPr>
            <p:cNvSpPr/>
            <p:nvPr/>
          </p:nvSpPr>
          <p:spPr>
            <a:xfrm>
              <a:off x="1461960" y="-57893040"/>
              <a:ext cx="1451160" cy="1565280"/>
            </a:xfrm>
            <a:custGeom>
              <a:avLst/>
              <a:gdLst/>
              <a:ahLst/>
              <a:rect l="l" t="t" r="r" b="b"/>
              <a:pathLst>
                <a:path w="914" h="986">
                  <a:moveTo>
                    <a:pt x="0" y="720"/>
                  </a:moveTo>
                  <a:lnTo>
                    <a:pt x="50" y="0"/>
                  </a:lnTo>
                  <a:lnTo>
                    <a:pt x="641" y="101"/>
                  </a:lnTo>
                  <a:lnTo>
                    <a:pt x="655" y="187"/>
                  </a:lnTo>
                  <a:lnTo>
                    <a:pt x="871" y="216"/>
                  </a:lnTo>
                  <a:lnTo>
                    <a:pt x="857" y="446"/>
                  </a:lnTo>
                  <a:lnTo>
                    <a:pt x="914" y="454"/>
                  </a:lnTo>
                  <a:lnTo>
                    <a:pt x="828" y="850"/>
                  </a:lnTo>
                  <a:lnTo>
                    <a:pt x="533" y="770"/>
                  </a:lnTo>
                  <a:lnTo>
                    <a:pt x="475" y="986"/>
                  </a:lnTo>
                  <a:lnTo>
                    <a:pt x="230" y="972"/>
                  </a:lnTo>
                  <a:lnTo>
                    <a:pt x="230" y="713"/>
                  </a:lnTo>
                  <a:lnTo>
                    <a:pt x="0" y="72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>
              <a:hlinkClick r:id="rId197"/>
            </p:cNvPr>
            <p:cNvSpPr/>
            <p:nvPr/>
          </p:nvSpPr>
          <p:spPr>
            <a:xfrm>
              <a:off x="2695680" y="-57824640"/>
              <a:ext cx="1131840" cy="1817640"/>
            </a:xfrm>
            <a:custGeom>
              <a:avLst/>
              <a:gdLst/>
              <a:ahLst/>
              <a:rect l="l" t="t" r="r" b="b"/>
              <a:pathLst>
                <a:path w="713" h="1145">
                  <a:moveTo>
                    <a:pt x="0" y="979"/>
                  </a:moveTo>
                  <a:lnTo>
                    <a:pt x="22" y="799"/>
                  </a:lnTo>
                  <a:lnTo>
                    <a:pt x="58" y="771"/>
                  </a:lnTo>
                  <a:lnTo>
                    <a:pt x="130" y="403"/>
                  </a:lnTo>
                  <a:lnTo>
                    <a:pt x="87" y="396"/>
                  </a:lnTo>
                  <a:lnTo>
                    <a:pt x="94" y="187"/>
                  </a:lnTo>
                  <a:lnTo>
                    <a:pt x="195" y="166"/>
                  </a:lnTo>
                  <a:lnTo>
                    <a:pt x="173" y="29"/>
                  </a:lnTo>
                  <a:lnTo>
                    <a:pt x="360" y="7"/>
                  </a:lnTo>
                  <a:lnTo>
                    <a:pt x="684" y="0"/>
                  </a:lnTo>
                  <a:lnTo>
                    <a:pt x="713" y="151"/>
                  </a:lnTo>
                  <a:lnTo>
                    <a:pt x="677" y="295"/>
                  </a:lnTo>
                  <a:lnTo>
                    <a:pt x="634" y="317"/>
                  </a:lnTo>
                  <a:lnTo>
                    <a:pt x="555" y="792"/>
                  </a:lnTo>
                  <a:lnTo>
                    <a:pt x="562" y="987"/>
                  </a:lnTo>
                  <a:lnTo>
                    <a:pt x="627" y="994"/>
                  </a:lnTo>
                  <a:lnTo>
                    <a:pt x="620" y="1037"/>
                  </a:lnTo>
                  <a:lnTo>
                    <a:pt x="440" y="1044"/>
                  </a:lnTo>
                  <a:lnTo>
                    <a:pt x="281" y="1015"/>
                  </a:lnTo>
                  <a:lnTo>
                    <a:pt x="180" y="1145"/>
                  </a:lnTo>
                  <a:lnTo>
                    <a:pt x="72" y="1145"/>
                  </a:lnTo>
                  <a:lnTo>
                    <a:pt x="58" y="987"/>
                  </a:lnTo>
                  <a:lnTo>
                    <a:pt x="0" y="9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>
              <a:hlinkClick r:id="rId198"/>
            </p:cNvPr>
            <p:cNvSpPr/>
            <p:nvPr/>
          </p:nvSpPr>
          <p:spPr>
            <a:xfrm>
              <a:off x="4238640" y="-58143960"/>
              <a:ext cx="1760400" cy="1486080"/>
            </a:xfrm>
            <a:custGeom>
              <a:avLst/>
              <a:gdLst/>
              <a:ahLst/>
              <a:rect l="l" t="t" r="r" b="b"/>
              <a:pathLst>
                <a:path w="1109" h="936">
                  <a:moveTo>
                    <a:pt x="8" y="439"/>
                  </a:moveTo>
                  <a:lnTo>
                    <a:pt x="0" y="252"/>
                  </a:lnTo>
                  <a:lnTo>
                    <a:pt x="346" y="237"/>
                  </a:lnTo>
                  <a:lnTo>
                    <a:pt x="627" y="252"/>
                  </a:lnTo>
                  <a:lnTo>
                    <a:pt x="627" y="208"/>
                  </a:lnTo>
                  <a:lnTo>
                    <a:pt x="720" y="194"/>
                  </a:lnTo>
                  <a:lnTo>
                    <a:pt x="749" y="0"/>
                  </a:lnTo>
                  <a:lnTo>
                    <a:pt x="1095" y="28"/>
                  </a:lnTo>
                  <a:lnTo>
                    <a:pt x="1109" y="259"/>
                  </a:lnTo>
                  <a:lnTo>
                    <a:pt x="944" y="936"/>
                  </a:lnTo>
                  <a:lnTo>
                    <a:pt x="641" y="921"/>
                  </a:lnTo>
                  <a:lnTo>
                    <a:pt x="634" y="648"/>
                  </a:lnTo>
                  <a:lnTo>
                    <a:pt x="389" y="612"/>
                  </a:lnTo>
                  <a:lnTo>
                    <a:pt x="389" y="504"/>
                  </a:lnTo>
                  <a:lnTo>
                    <a:pt x="310" y="424"/>
                  </a:lnTo>
                  <a:lnTo>
                    <a:pt x="8" y="43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>
              <a:hlinkClick r:id="rId199"/>
            </p:cNvPr>
            <p:cNvSpPr/>
            <p:nvPr/>
          </p:nvSpPr>
          <p:spPr>
            <a:xfrm>
              <a:off x="3565440" y="-57675600"/>
              <a:ext cx="1679760" cy="1417680"/>
            </a:xfrm>
            <a:custGeom>
              <a:avLst/>
              <a:gdLst/>
              <a:ahLst/>
              <a:rect l="l" t="t" r="r" b="b"/>
              <a:pathLst>
                <a:path w="1058" h="893">
                  <a:moveTo>
                    <a:pt x="0" y="885"/>
                  </a:moveTo>
                  <a:lnTo>
                    <a:pt x="0" y="684"/>
                  </a:lnTo>
                  <a:lnTo>
                    <a:pt x="72" y="216"/>
                  </a:lnTo>
                  <a:lnTo>
                    <a:pt x="115" y="216"/>
                  </a:lnTo>
                  <a:lnTo>
                    <a:pt x="144" y="57"/>
                  </a:lnTo>
                  <a:lnTo>
                    <a:pt x="439" y="0"/>
                  </a:lnTo>
                  <a:lnTo>
                    <a:pt x="439" y="101"/>
                  </a:lnTo>
                  <a:lnTo>
                    <a:pt x="734" y="122"/>
                  </a:lnTo>
                  <a:lnTo>
                    <a:pt x="806" y="194"/>
                  </a:lnTo>
                  <a:lnTo>
                    <a:pt x="813" y="309"/>
                  </a:lnTo>
                  <a:lnTo>
                    <a:pt x="1044" y="338"/>
                  </a:lnTo>
                  <a:lnTo>
                    <a:pt x="1058" y="533"/>
                  </a:lnTo>
                  <a:lnTo>
                    <a:pt x="777" y="641"/>
                  </a:lnTo>
                  <a:lnTo>
                    <a:pt x="763" y="698"/>
                  </a:lnTo>
                  <a:lnTo>
                    <a:pt x="518" y="713"/>
                  </a:lnTo>
                  <a:lnTo>
                    <a:pt x="540" y="871"/>
                  </a:lnTo>
                  <a:lnTo>
                    <a:pt x="374" y="878"/>
                  </a:lnTo>
                  <a:lnTo>
                    <a:pt x="309" y="813"/>
                  </a:lnTo>
                  <a:lnTo>
                    <a:pt x="230" y="821"/>
                  </a:lnTo>
                  <a:lnTo>
                    <a:pt x="100" y="893"/>
                  </a:lnTo>
                  <a:lnTo>
                    <a:pt x="0" y="88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>
              <a:hlinkClick r:id="rId200"/>
            </p:cNvPr>
            <p:cNvSpPr/>
            <p:nvPr/>
          </p:nvSpPr>
          <p:spPr>
            <a:xfrm>
              <a:off x="4765680" y="-59596560"/>
              <a:ext cx="1222560" cy="1863720"/>
            </a:xfrm>
            <a:custGeom>
              <a:avLst/>
              <a:gdLst/>
              <a:ahLst/>
              <a:rect l="l" t="t" r="r" b="b"/>
              <a:pathLst>
                <a:path w="770" h="1174">
                  <a:moveTo>
                    <a:pt x="28" y="1188"/>
                  </a:moveTo>
                  <a:lnTo>
                    <a:pt x="0" y="634"/>
                  </a:lnTo>
                  <a:lnTo>
                    <a:pt x="64" y="634"/>
                  </a:lnTo>
                  <a:lnTo>
                    <a:pt x="72" y="583"/>
                  </a:lnTo>
                  <a:lnTo>
                    <a:pt x="439" y="569"/>
                  </a:lnTo>
                  <a:lnTo>
                    <a:pt x="453" y="94"/>
                  </a:lnTo>
                  <a:lnTo>
                    <a:pt x="756" y="0"/>
                  </a:lnTo>
                  <a:lnTo>
                    <a:pt x="770" y="936"/>
                  </a:lnTo>
                  <a:lnTo>
                    <a:pt x="410" y="951"/>
                  </a:lnTo>
                  <a:lnTo>
                    <a:pt x="396" y="1102"/>
                  </a:lnTo>
                  <a:lnTo>
                    <a:pt x="324" y="1102"/>
                  </a:lnTo>
                  <a:lnTo>
                    <a:pt x="280" y="1174"/>
                  </a:lnTo>
                  <a:lnTo>
                    <a:pt x="28" y="118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>
              <a:hlinkClick r:id="rId201"/>
            </p:cNvPr>
            <p:cNvSpPr/>
            <p:nvPr/>
          </p:nvSpPr>
          <p:spPr>
            <a:xfrm>
              <a:off x="3279960" y="-58921560"/>
              <a:ext cx="1508040" cy="1325520"/>
            </a:xfrm>
            <a:custGeom>
              <a:avLst/>
              <a:gdLst/>
              <a:ahLst/>
              <a:rect l="l" t="t" r="r" b="b"/>
              <a:pathLst>
                <a:path w="950" h="835">
                  <a:moveTo>
                    <a:pt x="0" y="720"/>
                  </a:moveTo>
                  <a:lnTo>
                    <a:pt x="14" y="446"/>
                  </a:lnTo>
                  <a:lnTo>
                    <a:pt x="201" y="439"/>
                  </a:lnTo>
                  <a:lnTo>
                    <a:pt x="216" y="36"/>
                  </a:lnTo>
                  <a:lnTo>
                    <a:pt x="288" y="7"/>
                  </a:lnTo>
                  <a:lnTo>
                    <a:pt x="712" y="0"/>
                  </a:lnTo>
                  <a:lnTo>
                    <a:pt x="734" y="151"/>
                  </a:lnTo>
                  <a:lnTo>
                    <a:pt x="813" y="151"/>
                  </a:lnTo>
                  <a:lnTo>
                    <a:pt x="813" y="209"/>
                  </a:lnTo>
                  <a:lnTo>
                    <a:pt x="921" y="223"/>
                  </a:lnTo>
                  <a:lnTo>
                    <a:pt x="950" y="727"/>
                  </a:lnTo>
                  <a:lnTo>
                    <a:pt x="590" y="727"/>
                  </a:lnTo>
                  <a:lnTo>
                    <a:pt x="604" y="792"/>
                  </a:lnTo>
                  <a:lnTo>
                    <a:pt x="324" y="835"/>
                  </a:lnTo>
                  <a:lnTo>
                    <a:pt x="309" y="698"/>
                  </a:lnTo>
                  <a:lnTo>
                    <a:pt x="0" y="72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>
              <a:hlinkClick r:id="rId202"/>
            </p:cNvPr>
            <p:cNvSpPr/>
            <p:nvPr/>
          </p:nvSpPr>
          <p:spPr>
            <a:xfrm>
              <a:off x="1508040" y="-58829760"/>
              <a:ext cx="1793880" cy="1314720"/>
            </a:xfrm>
            <a:custGeom>
              <a:avLst/>
              <a:gdLst/>
              <a:ahLst/>
              <a:rect l="l" t="t" r="r" b="b"/>
              <a:pathLst>
                <a:path w="1130" h="828">
                  <a:moveTo>
                    <a:pt x="0" y="604"/>
                  </a:moveTo>
                  <a:lnTo>
                    <a:pt x="28" y="0"/>
                  </a:lnTo>
                  <a:lnTo>
                    <a:pt x="410" y="7"/>
                  </a:lnTo>
                  <a:lnTo>
                    <a:pt x="410" y="223"/>
                  </a:lnTo>
                  <a:lnTo>
                    <a:pt x="914" y="252"/>
                  </a:lnTo>
                  <a:lnTo>
                    <a:pt x="936" y="381"/>
                  </a:lnTo>
                  <a:lnTo>
                    <a:pt x="1130" y="381"/>
                  </a:lnTo>
                  <a:lnTo>
                    <a:pt x="1123" y="626"/>
                  </a:lnTo>
                  <a:lnTo>
                    <a:pt x="921" y="655"/>
                  </a:lnTo>
                  <a:lnTo>
                    <a:pt x="936" y="828"/>
                  </a:lnTo>
                  <a:lnTo>
                    <a:pt x="619" y="792"/>
                  </a:lnTo>
                  <a:lnTo>
                    <a:pt x="619" y="684"/>
                  </a:lnTo>
                  <a:lnTo>
                    <a:pt x="0" y="60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>
              <a:hlinkClick r:id="rId203"/>
            </p:cNvPr>
            <p:cNvSpPr/>
            <p:nvPr/>
          </p:nvSpPr>
          <p:spPr>
            <a:xfrm>
              <a:off x="4433760" y="-59436000"/>
              <a:ext cx="1040040" cy="857160"/>
            </a:xfrm>
            <a:custGeom>
              <a:avLst/>
              <a:gdLst/>
              <a:ahLst/>
              <a:rect l="l" t="t" r="r" b="b"/>
              <a:pathLst>
                <a:path w="655" h="540">
                  <a:moveTo>
                    <a:pt x="0" y="324"/>
                  </a:moveTo>
                  <a:lnTo>
                    <a:pt x="21" y="475"/>
                  </a:lnTo>
                  <a:lnTo>
                    <a:pt x="79" y="475"/>
                  </a:lnTo>
                  <a:lnTo>
                    <a:pt x="86" y="533"/>
                  </a:lnTo>
                  <a:lnTo>
                    <a:pt x="273" y="540"/>
                  </a:lnTo>
                  <a:lnTo>
                    <a:pt x="281" y="482"/>
                  </a:lnTo>
                  <a:lnTo>
                    <a:pt x="648" y="475"/>
                  </a:lnTo>
                  <a:lnTo>
                    <a:pt x="655" y="0"/>
                  </a:lnTo>
                  <a:lnTo>
                    <a:pt x="21" y="310"/>
                  </a:lnTo>
                  <a:lnTo>
                    <a:pt x="0" y="3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>
              <a:hlinkClick r:id="rId204"/>
            </p:cNvPr>
            <p:cNvSpPr/>
            <p:nvPr/>
          </p:nvSpPr>
          <p:spPr>
            <a:xfrm>
              <a:off x="1530360" y="-59218560"/>
              <a:ext cx="2239920" cy="1028520"/>
            </a:xfrm>
            <a:custGeom>
              <a:avLst/>
              <a:gdLst/>
              <a:ahLst/>
              <a:rect l="l" t="t" r="r" b="b"/>
              <a:pathLst>
                <a:path w="1411" h="648">
                  <a:moveTo>
                    <a:pt x="0" y="266"/>
                  </a:moveTo>
                  <a:lnTo>
                    <a:pt x="22" y="14"/>
                  </a:lnTo>
                  <a:lnTo>
                    <a:pt x="929" y="0"/>
                  </a:lnTo>
                  <a:lnTo>
                    <a:pt x="1382" y="50"/>
                  </a:lnTo>
                  <a:lnTo>
                    <a:pt x="1411" y="194"/>
                  </a:lnTo>
                  <a:lnTo>
                    <a:pt x="1303" y="252"/>
                  </a:lnTo>
                  <a:lnTo>
                    <a:pt x="1303" y="641"/>
                  </a:lnTo>
                  <a:lnTo>
                    <a:pt x="914" y="648"/>
                  </a:lnTo>
                  <a:lnTo>
                    <a:pt x="893" y="482"/>
                  </a:lnTo>
                  <a:lnTo>
                    <a:pt x="396" y="489"/>
                  </a:lnTo>
                  <a:lnTo>
                    <a:pt x="396" y="245"/>
                  </a:lnTo>
                  <a:lnTo>
                    <a:pt x="0" y="26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1" name="line9px" descr=""/>
          <p:cNvPicPr/>
          <p:nvPr/>
        </p:nvPicPr>
        <p:blipFill>
          <a:blip r:embed="rId205"/>
          <a:stretch/>
        </p:blipFill>
        <p:spPr>
          <a:xfrm>
            <a:off x="-144360" y="-531846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722" name="GreenBarBottomLeft" descr=""/>
          <p:cNvPicPr/>
          <p:nvPr/>
        </p:nvPicPr>
        <p:blipFill>
          <a:blip r:embed="rId206"/>
          <a:stretch/>
        </p:blipFill>
        <p:spPr>
          <a:xfrm>
            <a:off x="30240" y="-52682760"/>
            <a:ext cx="125280" cy="297000"/>
          </a:xfrm>
          <a:prstGeom prst="rect">
            <a:avLst/>
          </a:prstGeom>
          <a:ln w="0">
            <a:noFill/>
          </a:ln>
        </p:spPr>
      </p:pic>
      <p:pic>
        <p:nvPicPr>
          <p:cNvPr id="723" name="GreenBarBottomRight" descr=""/>
          <p:cNvPicPr/>
          <p:nvPr/>
        </p:nvPicPr>
        <p:blipFill>
          <a:blip r:embed="rId207"/>
          <a:stretch/>
        </p:blipFill>
        <p:spPr>
          <a:xfrm>
            <a:off x="9264600" y="-52682760"/>
            <a:ext cx="125640" cy="297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0492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orage, AK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0" y="1508040"/>
            <a:ext cx="9129600" cy="5029200"/>
            <a:chOff x="0" y="1508040"/>
            <a:chExt cx="9129600" cy="5029200"/>
          </a:xfrm>
        </p:grpSpPr>
        <p:sp>
          <p:nvSpPr>
            <p:cNvPr id="726" name=""/>
            <p:cNvSpPr/>
            <p:nvPr/>
          </p:nvSpPr>
          <p:spPr>
            <a:xfrm>
              <a:off x="0" y="1508040"/>
              <a:ext cx="2298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8600" y="1508040"/>
              <a:ext cx="6831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6080040"/>
              <a:ext cx="229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8600" y="6080040"/>
              <a:ext cx="4830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0 miles acr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29440" y="6080040"/>
              <a:ext cx="2000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1" name="leg36289263" descr=""/>
          <p:cNvPicPr/>
          <p:nvPr/>
        </p:nvPicPr>
        <p:blipFill>
          <a:blip r:embed="rId208"/>
          <a:stretch/>
        </p:blipFill>
        <p:spPr>
          <a:xfrm>
            <a:off x="457200" y="152388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732" name="36289263" descr=""/>
          <p:cNvPicPr/>
          <p:nvPr/>
        </p:nvPicPr>
        <p:blipFill>
          <a:blip r:embed="rId209"/>
          <a:stretch/>
        </p:blipFill>
        <p:spPr>
          <a:xfrm>
            <a:off x="2467080" y="1554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733" name="1px" descr=""/>
          <p:cNvPicPr/>
          <p:nvPr/>
        </p:nvPicPr>
        <p:blipFill>
          <a:blip r:embed="rId210"/>
          <a:stretch/>
        </p:blipFill>
        <p:spPr>
          <a:xfrm>
            <a:off x="2467080" y="6033960"/>
            <a:ext cx="11160" cy="68400"/>
          </a:xfrm>
          <a:prstGeom prst="rect">
            <a:avLst/>
          </a:prstGeom>
          <a:ln w="0">
            <a:noFill/>
          </a:ln>
        </p:spPr>
      </p:pic>
      <p:pic>
        <p:nvPicPr>
          <p:cNvPr id="734" name="close" descr="Close"/>
          <p:cNvPicPr/>
          <p:nvPr/>
        </p:nvPicPr>
        <p:blipFill>
          <a:blip r:embed="rId211"/>
          <a:stretch/>
        </p:blipFill>
        <p:spPr>
          <a:xfrm>
            <a:off x="8380440" y="6126120"/>
            <a:ext cx="6285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hens- Clar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24000" y="457200"/>
            <a:ext cx="1756800" cy="457200"/>
            <a:chOff x="1224000" y="457200"/>
            <a:chExt cx="1756800" cy="457200"/>
          </a:xfrm>
        </p:grpSpPr>
        <p:sp>
          <p:nvSpPr>
            <p:cNvPr id="59" name=""/>
            <p:cNvSpPr/>
            <p:nvPr/>
          </p:nvSpPr>
          <p:spPr>
            <a:xfrm>
              <a:off x="1224000" y="457200"/>
              <a:ext cx="44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68240" y="457200"/>
              <a:ext cx="1312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  <a:ea typeface="Arial"/>
                </a:rPr>
                <a:t>Athens, G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24000" y="91440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apimage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29400" cy="5181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24000" y="1003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tar" descr="star"/>
          <p:cNvPicPr/>
          <p:nvPr/>
        </p:nvPicPr>
        <p:blipFill>
          <a:blip r:embed="rId2"/>
          <a:stretch/>
        </p:blipFill>
        <p:spPr>
          <a:xfrm>
            <a:off x="1392120" y="503280"/>
            <a:ext cx="171720" cy="17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0"/>
            <a:ext cx="693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23240" y="522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s, GA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1508040"/>
            <a:ext cx="9129600" cy="5029200"/>
            <a:chOff x="0" y="1508040"/>
            <a:chExt cx="9129600" cy="5029200"/>
          </a:xfrm>
        </p:grpSpPr>
        <p:sp>
          <p:nvSpPr>
            <p:cNvPr id="70" name=""/>
            <p:cNvSpPr/>
            <p:nvPr/>
          </p:nvSpPr>
          <p:spPr>
            <a:xfrm>
              <a:off x="0" y="1508040"/>
              <a:ext cx="2298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98600" y="1508040"/>
              <a:ext cx="6831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080040"/>
              <a:ext cx="229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98600" y="6080040"/>
              <a:ext cx="6826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leg36289328" descr=""/>
          <p:cNvPicPr/>
          <p:nvPr/>
        </p:nvPicPr>
        <p:blipFill>
          <a:blip r:embed="rId1"/>
          <a:stretch/>
        </p:blipFill>
        <p:spPr>
          <a:xfrm>
            <a:off x="168120" y="15541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75" name="36289328" descr=""/>
          <p:cNvPicPr/>
          <p:nvPr/>
        </p:nvPicPr>
        <p:blipFill>
          <a:blip r:embed="rId2"/>
          <a:stretch/>
        </p:blipFill>
        <p:spPr>
          <a:xfrm>
            <a:off x="2467080" y="1554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76" name="1px" descr=""/>
          <p:cNvPicPr/>
          <p:nvPr/>
        </p:nvPicPr>
        <p:blipFill>
          <a:blip r:embed="rId3"/>
          <a:stretch/>
        </p:blipFill>
        <p:spPr>
          <a:xfrm>
            <a:off x="2467080" y="6033960"/>
            <a:ext cx="11160" cy="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ttle-King 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24000" y="457200"/>
            <a:ext cx="1763640" cy="457200"/>
            <a:chOff x="1224000" y="457200"/>
            <a:chExt cx="1763640" cy="457200"/>
          </a:xfrm>
        </p:grpSpPr>
        <p:sp>
          <p:nvSpPr>
            <p:cNvPr id="79" name=""/>
            <p:cNvSpPr/>
            <p:nvPr/>
          </p:nvSpPr>
          <p:spPr>
            <a:xfrm>
              <a:off x="1224000" y="457200"/>
              <a:ext cx="44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68600" y="457200"/>
              <a:ext cx="1319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  <a:ea typeface="Arial"/>
                </a:rPr>
                <a:t>Seattle, W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224000" y="91440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apimage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24000" y="1003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tar" descr="star"/>
          <p:cNvPicPr/>
          <p:nvPr/>
        </p:nvPicPr>
        <p:blipFill>
          <a:blip r:embed="rId2"/>
          <a:stretch/>
        </p:blipFill>
        <p:spPr>
          <a:xfrm>
            <a:off x="1392120" y="503280"/>
            <a:ext cx="17172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040" y="6094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ttle--Tacoma--Bremerton, WA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88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leg36289887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91" name="36289887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66582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neapolis-St. Paul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24000" y="457200"/>
            <a:ext cx="2057400" cy="457200"/>
            <a:chOff x="1224000" y="457200"/>
            <a:chExt cx="2057400" cy="457200"/>
          </a:xfrm>
        </p:grpSpPr>
        <p:sp>
          <p:nvSpPr>
            <p:cNvPr id="94" name=""/>
            <p:cNvSpPr/>
            <p:nvPr/>
          </p:nvSpPr>
          <p:spPr>
            <a:xfrm>
              <a:off x="1224000" y="457200"/>
              <a:ext cx="44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68600" y="457200"/>
              <a:ext cx="161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  <a:ea typeface="Arial"/>
                </a:rPr>
                <a:t>Minneapolis, M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224000" y="91440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apimage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55812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24000" y="1003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star" descr="star"/>
          <p:cNvPicPr/>
          <p:nvPr/>
        </p:nvPicPr>
        <p:blipFill>
          <a:blip r:embed="rId2"/>
          <a:stretch/>
        </p:blipFill>
        <p:spPr>
          <a:xfrm>
            <a:off x="1392120" y="503280"/>
            <a:ext cx="17172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8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neapolis--St. Paul, MN--WI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03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leg36289673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106" name="36289673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642960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land OR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24000" y="457200"/>
            <a:ext cx="993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Portland,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mapimag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5181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0:32:45Z</dcterms:created>
  <dc:creator>c2020706</dc:creator>
  <dc:description/>
  <dc:language>en-US</dc:language>
  <cp:lastModifiedBy>c2309055</cp:lastModifiedBy>
  <dcterms:modified xsi:type="dcterms:W3CDTF">2005-04-04T15:45:38Z</dcterms:modified>
  <cp:revision>1</cp:revision>
  <dc:subject/>
  <dc:title>Nashville-Davidson (UA)</dc:title>
</cp:coreProperties>
</file>